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116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6.png" ContentType="image/png"/>
  <Override PartName="/ppt/media/image103.png" ContentType="image/png"/>
  <Override PartName="/ppt/media/image95.png" ContentType="image/png"/>
  <Override PartName="/ppt/media/image102.png" ContentType="image/png"/>
  <Override PartName="/ppt/media/image114.png" ContentType="image/png"/>
  <Override PartName="/ppt/media/image70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89.png" ContentType="image/png"/>
  <Override PartName="/ppt/media/image111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632-FD8F-4528-B712-312297C7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D10-1A99-4FCB-9096-DC1CEC20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A5B-765D-475B-A6E0-CBE3B7D5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B16-BC9D-4058-B760-028D9303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5E9-0352-47F6-9A17-69F964BF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127-7D19-4D7E-B22B-D5C80787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B76-B5ED-45EA-9B5F-E65215DB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A3B-B37B-456D-80C0-F6DAFD23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C38-CE97-48E9-8A5E-277468AC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4BC-24CC-4AFB-8497-09FFD667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38B-83FB-4AB0-B5AF-075E88DD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71C-1B16-4BA0-945F-F9103514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3874-1671-4D11-9A6C-160A3E6F26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png"/><Relationship Id="rId43" Type="http://schemas.openxmlformats.org/officeDocument/2006/relationships/image" Target="../media/image45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image" Target="../media/image49.png"/><Relationship Id="rId48" Type="http://schemas.openxmlformats.org/officeDocument/2006/relationships/image" Target="../media/image50.png"/><Relationship Id="rId49" Type="http://schemas.openxmlformats.org/officeDocument/2006/relationships/image" Target="../media/image51.png"/><Relationship Id="rId50" Type="http://schemas.openxmlformats.org/officeDocument/2006/relationships/image" Target="../media/image52.png"/><Relationship Id="rId51" Type="http://schemas.openxmlformats.org/officeDocument/2006/relationships/image" Target="../media/image53.png"/><Relationship Id="rId52" Type="http://schemas.openxmlformats.org/officeDocument/2006/relationships/image" Target="../media/image54.png"/><Relationship Id="rId53" Type="http://schemas.openxmlformats.org/officeDocument/2006/relationships/image" Target="../media/image55.png"/><Relationship Id="rId54" Type="http://schemas.openxmlformats.org/officeDocument/2006/relationships/image" Target="../media/image56.png"/><Relationship Id="rId55" Type="http://schemas.openxmlformats.org/officeDocument/2006/relationships/image" Target="../media/image57.png"/><Relationship Id="rId56" Type="http://schemas.openxmlformats.org/officeDocument/2006/relationships/image" Target="../media/image58.png"/><Relationship Id="rId57" Type="http://schemas.openxmlformats.org/officeDocument/2006/relationships/image" Target="../media/image59.png"/><Relationship Id="rId58" Type="http://schemas.openxmlformats.org/officeDocument/2006/relationships/image" Target="../media/image60.png"/><Relationship Id="rId59" Type="http://schemas.openxmlformats.org/officeDocument/2006/relationships/image" Target="../media/image61.png"/><Relationship Id="rId60" Type="http://schemas.openxmlformats.org/officeDocument/2006/relationships/image" Target="../media/image62.png"/><Relationship Id="rId61" Type="http://schemas.openxmlformats.org/officeDocument/2006/relationships/image" Target="../media/image63.png"/><Relationship Id="rId62" Type="http://schemas.openxmlformats.org/officeDocument/2006/relationships/image" Target="../media/image64.png"/><Relationship Id="rId63" Type="http://schemas.openxmlformats.org/officeDocument/2006/relationships/image" Target="../media/image65.png"/><Relationship Id="rId64" Type="http://schemas.openxmlformats.org/officeDocument/2006/relationships/image" Target="../media/image66.png"/><Relationship Id="rId65" Type="http://schemas.openxmlformats.org/officeDocument/2006/relationships/image" Target="../media/image67.png"/><Relationship Id="rId66" Type="http://schemas.openxmlformats.org/officeDocument/2006/relationships/image" Target="../media/image68.png"/><Relationship Id="rId67" Type="http://schemas.openxmlformats.org/officeDocument/2006/relationships/image" Target="../media/image69.png"/><Relationship Id="rId68" Type="http://schemas.openxmlformats.org/officeDocument/2006/relationships/image" Target="../media/image70.png"/><Relationship Id="rId69" Type="http://schemas.openxmlformats.org/officeDocument/2006/relationships/image" Target="../media/image71.png"/><Relationship Id="rId70" Type="http://schemas.openxmlformats.org/officeDocument/2006/relationships/image" Target="../media/image72.png"/><Relationship Id="rId71" Type="http://schemas.openxmlformats.org/officeDocument/2006/relationships/image" Target="../media/image73.png"/><Relationship Id="rId72" Type="http://schemas.openxmlformats.org/officeDocument/2006/relationships/image" Target="../media/image74.png"/><Relationship Id="rId73" Type="http://schemas.openxmlformats.org/officeDocument/2006/relationships/image" Target="../media/image75.png"/><Relationship Id="rId74" Type="http://schemas.openxmlformats.org/officeDocument/2006/relationships/image" Target="../media/image76.png"/><Relationship Id="rId75" Type="http://schemas.openxmlformats.org/officeDocument/2006/relationships/image" Target="../media/image77.png"/><Relationship Id="rId76" Type="http://schemas.openxmlformats.org/officeDocument/2006/relationships/image" Target="../media/image78.png"/><Relationship Id="rId77" Type="http://schemas.openxmlformats.org/officeDocument/2006/relationships/image" Target="../media/image79.png"/><Relationship Id="rId78" Type="http://schemas.openxmlformats.org/officeDocument/2006/relationships/image" Target="../media/image80.png"/><Relationship Id="rId79" Type="http://schemas.openxmlformats.org/officeDocument/2006/relationships/image" Target="../media/image81.png"/><Relationship Id="rId80" Type="http://schemas.openxmlformats.org/officeDocument/2006/relationships/image" Target="../media/image82.png"/><Relationship Id="rId81" Type="http://schemas.openxmlformats.org/officeDocument/2006/relationships/image" Target="../media/image83.png"/><Relationship Id="rId82" Type="http://schemas.openxmlformats.org/officeDocument/2006/relationships/image" Target="../media/image84.png"/><Relationship Id="rId83" Type="http://schemas.openxmlformats.org/officeDocument/2006/relationships/image" Target="../media/image85.png"/><Relationship Id="rId84" Type="http://schemas.openxmlformats.org/officeDocument/2006/relationships/image" Target="../media/image86.png"/><Relationship Id="rId85" Type="http://schemas.openxmlformats.org/officeDocument/2006/relationships/image" Target="../media/image87.png"/><Relationship Id="rId86" Type="http://schemas.openxmlformats.org/officeDocument/2006/relationships/image" Target="../media/image88.png"/><Relationship Id="rId8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36.png"/><Relationship Id="rId6" Type="http://schemas.openxmlformats.org/officeDocument/2006/relationships/image" Target="../media/image83.png"/><Relationship Id="rId7" Type="http://schemas.openxmlformats.org/officeDocument/2006/relationships/image" Target="../media/image93.png"/><Relationship Id="rId8" Type="http://schemas.openxmlformats.org/officeDocument/2006/relationships/image" Target="../media/image53.png"/><Relationship Id="rId9" Type="http://schemas.openxmlformats.org/officeDocument/2006/relationships/image" Target="../media/image94.png"/><Relationship Id="rId10" Type="http://schemas.openxmlformats.org/officeDocument/2006/relationships/image" Target="../media/image18.png"/><Relationship Id="rId11" Type="http://schemas.openxmlformats.org/officeDocument/2006/relationships/image" Target="../media/image27.png"/><Relationship Id="rId12" Type="http://schemas.openxmlformats.org/officeDocument/2006/relationships/image" Target="../media/image54.png"/><Relationship Id="rId13" Type="http://schemas.openxmlformats.org/officeDocument/2006/relationships/image" Target="../media/image95.png"/><Relationship Id="rId14" Type="http://schemas.openxmlformats.org/officeDocument/2006/relationships/image" Target="../media/image96.png"/><Relationship Id="rId15" Type="http://schemas.openxmlformats.org/officeDocument/2006/relationships/image" Target="../media/image26.png"/><Relationship Id="rId16" Type="http://schemas.openxmlformats.org/officeDocument/2006/relationships/image" Target="../media/image97.png"/><Relationship Id="rId17" Type="http://schemas.openxmlformats.org/officeDocument/2006/relationships/image" Target="../media/image55.png"/><Relationship Id="rId18" Type="http://schemas.openxmlformats.org/officeDocument/2006/relationships/image" Target="../media/image4.png"/><Relationship Id="rId19" Type="http://schemas.openxmlformats.org/officeDocument/2006/relationships/image" Target="../media/image98.png"/><Relationship Id="rId20" Type="http://schemas.openxmlformats.org/officeDocument/2006/relationships/image" Target="../media/image64.png"/><Relationship Id="rId21" Type="http://schemas.openxmlformats.org/officeDocument/2006/relationships/image" Target="../media/image99.png"/><Relationship Id="rId22" Type="http://schemas.openxmlformats.org/officeDocument/2006/relationships/image" Target="../media/image15.png"/><Relationship Id="rId23" Type="http://schemas.openxmlformats.org/officeDocument/2006/relationships/image" Target="../media/image100.png"/><Relationship Id="rId24" Type="http://schemas.openxmlformats.org/officeDocument/2006/relationships/image" Target="../media/image101.png"/><Relationship Id="rId25" Type="http://schemas.openxmlformats.org/officeDocument/2006/relationships/image" Target="../media/image86.png"/><Relationship Id="rId26" Type="http://schemas.openxmlformats.org/officeDocument/2006/relationships/image" Target="../media/image28.png"/><Relationship Id="rId27" Type="http://schemas.openxmlformats.org/officeDocument/2006/relationships/image" Target="../media/image33.png"/><Relationship Id="rId28" Type="http://schemas.openxmlformats.org/officeDocument/2006/relationships/image" Target="../media/image102.png"/><Relationship Id="rId29" Type="http://schemas.openxmlformats.org/officeDocument/2006/relationships/image" Target="../media/image29.png"/><Relationship Id="rId30" Type="http://schemas.openxmlformats.org/officeDocument/2006/relationships/image" Target="../media/image62.png"/><Relationship Id="rId31" Type="http://schemas.openxmlformats.org/officeDocument/2006/relationships/image" Target="../media/image73.png"/><Relationship Id="rId32" Type="http://schemas.openxmlformats.org/officeDocument/2006/relationships/image" Target="../media/image70.png"/><Relationship Id="rId33" Type="http://schemas.openxmlformats.org/officeDocument/2006/relationships/image" Target="../media/image103.png"/><Relationship Id="rId34" Type="http://schemas.openxmlformats.org/officeDocument/2006/relationships/image" Target="../media/image104.png"/><Relationship Id="rId35" Type="http://schemas.openxmlformats.org/officeDocument/2006/relationships/image" Target="../media/image40.png"/><Relationship Id="rId36" Type="http://schemas.openxmlformats.org/officeDocument/2006/relationships/image" Target="../media/image16.png"/><Relationship Id="rId37" Type="http://schemas.openxmlformats.org/officeDocument/2006/relationships/image" Target="../media/image81.png"/><Relationship Id="rId38" Type="http://schemas.openxmlformats.org/officeDocument/2006/relationships/image" Target="../media/image17.png"/><Relationship Id="rId39" Type="http://schemas.openxmlformats.org/officeDocument/2006/relationships/image" Target="../media/image88.png"/><Relationship Id="rId40" Type="http://schemas.openxmlformats.org/officeDocument/2006/relationships/image" Target="../media/image105.png"/><Relationship Id="rId41" Type="http://schemas.openxmlformats.org/officeDocument/2006/relationships/image" Target="../media/image87.png"/><Relationship Id="rId42" Type="http://schemas.openxmlformats.org/officeDocument/2006/relationships/image" Target="../media/image47.png"/><Relationship Id="rId43" Type="http://schemas.openxmlformats.org/officeDocument/2006/relationships/image" Target="../media/image75.png"/><Relationship Id="rId44" Type="http://schemas.openxmlformats.org/officeDocument/2006/relationships/image" Target="../media/image9.png"/><Relationship Id="rId45" Type="http://schemas.openxmlformats.org/officeDocument/2006/relationships/image" Target="../media/image24.png"/><Relationship Id="rId46" Type="http://schemas.openxmlformats.org/officeDocument/2006/relationships/image" Target="../media/image19.png"/><Relationship Id="rId47" Type="http://schemas.openxmlformats.org/officeDocument/2006/relationships/image" Target="../media/image3.png"/><Relationship Id="rId48" Type="http://schemas.openxmlformats.org/officeDocument/2006/relationships/image" Target="../media/image106.png"/><Relationship Id="rId49" Type="http://schemas.openxmlformats.org/officeDocument/2006/relationships/image" Target="../media/image35.png"/><Relationship Id="rId50" Type="http://schemas.openxmlformats.org/officeDocument/2006/relationships/image" Target="../media/image42.png"/><Relationship Id="rId51" Type="http://schemas.openxmlformats.org/officeDocument/2006/relationships/image" Target="../media/image23.png"/><Relationship Id="rId52" Type="http://schemas.openxmlformats.org/officeDocument/2006/relationships/image" Target="../media/image107.png"/><Relationship Id="rId53" Type="http://schemas.openxmlformats.org/officeDocument/2006/relationships/image" Target="../media/image60.png"/><Relationship Id="rId54" Type="http://schemas.openxmlformats.org/officeDocument/2006/relationships/image" Target="../media/image66.png"/><Relationship Id="rId55" Type="http://schemas.openxmlformats.org/officeDocument/2006/relationships/image" Target="../media/image85.png"/><Relationship Id="rId56" Type="http://schemas.openxmlformats.org/officeDocument/2006/relationships/image" Target="../media/image13.png"/><Relationship Id="rId57" Type="http://schemas.openxmlformats.org/officeDocument/2006/relationships/image" Target="../media/image11.png"/><Relationship Id="rId58" Type="http://schemas.openxmlformats.org/officeDocument/2006/relationships/image" Target="../media/image108.png"/><Relationship Id="rId59" Type="http://schemas.openxmlformats.org/officeDocument/2006/relationships/image" Target="../media/image21.png"/><Relationship Id="rId60" Type="http://schemas.openxmlformats.org/officeDocument/2006/relationships/image" Target="../media/image22.png"/><Relationship Id="rId61" Type="http://schemas.openxmlformats.org/officeDocument/2006/relationships/image" Target="../media/image63.png"/><Relationship Id="rId62" Type="http://schemas.openxmlformats.org/officeDocument/2006/relationships/image" Target="../media/image109.png"/><Relationship Id="rId63" Type="http://schemas.openxmlformats.org/officeDocument/2006/relationships/image" Target="../media/image110.png"/><Relationship Id="rId64" Type="http://schemas.openxmlformats.org/officeDocument/2006/relationships/image" Target="../media/image39.png"/><Relationship Id="rId65" Type="http://schemas.openxmlformats.org/officeDocument/2006/relationships/image" Target="../media/image111.png"/><Relationship Id="rId66" Type="http://schemas.openxmlformats.org/officeDocument/2006/relationships/image" Target="../media/image77.png"/><Relationship Id="rId67" Type="http://schemas.openxmlformats.org/officeDocument/2006/relationships/image" Target="../media/image112.png"/><Relationship Id="rId68" Type="http://schemas.openxmlformats.org/officeDocument/2006/relationships/image" Target="../media/image113.png"/><Relationship Id="rId69" Type="http://schemas.openxmlformats.org/officeDocument/2006/relationships/image" Target="../media/image59.png"/><Relationship Id="rId70" Type="http://schemas.openxmlformats.org/officeDocument/2006/relationships/image" Target="../media/image52.png"/><Relationship Id="rId71" Type="http://schemas.openxmlformats.org/officeDocument/2006/relationships/image" Target="../media/image72.png"/><Relationship Id="rId72" Type="http://schemas.openxmlformats.org/officeDocument/2006/relationships/image" Target="../media/image25.png"/><Relationship Id="rId73" Type="http://schemas.openxmlformats.org/officeDocument/2006/relationships/image" Target="../media/image71.png"/><Relationship Id="rId74" Type="http://schemas.openxmlformats.org/officeDocument/2006/relationships/image" Target="../media/image38.png"/><Relationship Id="rId75" Type="http://schemas.openxmlformats.org/officeDocument/2006/relationships/image" Target="../media/image114.png"/><Relationship Id="rId76" Type="http://schemas.openxmlformats.org/officeDocument/2006/relationships/image" Target="../media/image34.png"/><Relationship Id="rId77" Type="http://schemas.openxmlformats.org/officeDocument/2006/relationships/image" Target="../media/image84.png"/><Relationship Id="rId78" Type="http://schemas.openxmlformats.org/officeDocument/2006/relationships/image" Target="../media/image7.png"/><Relationship Id="rId79" Type="http://schemas.openxmlformats.org/officeDocument/2006/relationships/image" Target="../media/image80.png"/><Relationship Id="rId80" Type="http://schemas.openxmlformats.org/officeDocument/2006/relationships/image" Target="../media/image43.png"/><Relationship Id="rId81" Type="http://schemas.openxmlformats.org/officeDocument/2006/relationships/image" Target="../media/image115.png"/><Relationship Id="rId82" Type="http://schemas.openxmlformats.org/officeDocument/2006/relationships/image" Target="../media/image6.png"/><Relationship Id="rId83" Type="http://schemas.openxmlformats.org/officeDocument/2006/relationships/image" Target="../media/image116.png"/><Relationship Id="rId84" Type="http://schemas.openxmlformats.org/officeDocument/2006/relationships/image" Target="../media/image68.png"/><Relationship Id="rId85" Type="http://schemas.openxmlformats.org/officeDocument/2006/relationships/image" Target="../media/image61.png"/><Relationship Id="rId86" Type="http://schemas.openxmlformats.org/officeDocument/2006/relationships/image" Target="../media/image37.png"/><Relationship Id="rId8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575160" y="1631880"/>
            <a:ext cx="6211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просы функцион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осударственной автоматизированной информационной системы «Управление» и Государственной информационной системы о государственных и муниципальных платеж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571920" y="4941720"/>
            <a:ext cx="543240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79360" y="1120680"/>
          <a:ext cx="10655280" cy="5623200"/>
        </p:xfrm>
        <a:graphic>
          <a:graphicData uri="http://schemas.openxmlformats.org/drawingml/2006/table">
            <a:tbl>
              <a:tblPr/>
              <a:tblGrid>
                <a:gridCol w="1332000"/>
                <a:gridCol w="1332000"/>
                <a:gridCol w="1332000"/>
                <a:gridCol w="1331640"/>
                <a:gridCol w="1332000"/>
                <a:gridCol w="1332000"/>
                <a:gridCol w="1332000"/>
                <a:gridCol w="1331640"/>
              </a:tblGrid>
              <a:tr h="411840"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тайск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рган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мык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мбов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МА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3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рослав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лов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4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че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9000"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ур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инград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е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ер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шкортостан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1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трахан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ярск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2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кас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9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9000"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город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пец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ль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та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8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нзен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логод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ркут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9000"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ков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а (Якутия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юмен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неж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6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рман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я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9000"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врей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номн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жегород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тарстан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мурт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ваш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2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орск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5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хангель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город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5800"/>
                    </a:solidFill>
                  </a:tcPr>
                </a:tc>
              </a:tr>
              <a:tr h="549000"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сибир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в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баровск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8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ерн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етия - Алан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7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дов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8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байкальск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5800"/>
                    </a:solidFill>
                  </a:tcPr>
                </a:tc>
              </a:tr>
              <a:tr h="411840"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уж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енбург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язан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НА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тов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7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димир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5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нкт-Петербург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4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ым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5800"/>
                    </a:solidFill>
                  </a:tcPr>
                </a:tc>
              </a:tr>
              <a:tr h="549000"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мчатск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ков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атов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ябин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гадан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5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котск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номны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уг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ининград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3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астопол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5800"/>
                    </a:solidFill>
                  </a:tcPr>
                </a:tc>
              </a:tr>
              <a:tr h="549000"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ачаево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кес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рят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алин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длов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2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ром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7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ьянов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ецк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номны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уг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2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меров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гестан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олен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р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ий-Э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6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м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3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ыге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8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ров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гушет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врополь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дарск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3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м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4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лгоград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1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бардино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лкар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8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5" descr="C:\Users\ежик\Desktop\гербы\Новая папка\117px-Coat_of_Arms_Belgorod_Oblast.svg.png"/>
          <p:cNvPicPr/>
          <p:nvPr/>
        </p:nvPicPr>
        <p:blipFill>
          <a:blip r:embed="rId1"/>
          <a:stretch/>
        </p:blipFill>
        <p:spPr>
          <a:xfrm>
            <a:off x="1239840" y="2125800"/>
            <a:ext cx="333360" cy="42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ежик\Desktop\гербы\126px-Coat_of_Arms_of_Moscow.svg.png"/>
          <p:cNvPicPr/>
          <p:nvPr/>
        </p:nvPicPr>
        <p:blipFill>
          <a:blip r:embed="rId2"/>
          <a:stretch/>
        </p:blipFill>
        <p:spPr>
          <a:xfrm>
            <a:off x="1238400" y="2668680"/>
            <a:ext cx="358560" cy="42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C:\Users\ежик\Desktop\гербы\144px-Coat_of_Arms_of_Altai_Krai.svg.png"/>
          <p:cNvPicPr/>
          <p:nvPr/>
        </p:nvPicPr>
        <p:blipFill>
          <a:blip r:embed="rId3"/>
          <a:stretch/>
        </p:blipFill>
        <p:spPr>
          <a:xfrm>
            <a:off x="1212840" y="1131840"/>
            <a:ext cx="361800" cy="37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Users\ежик\Desktop\гербы\133px-Coat_of_arms_of_the_Jewish_Autonomous_Oblast.svg.png"/>
          <p:cNvPicPr/>
          <p:nvPr/>
        </p:nvPicPr>
        <p:blipFill>
          <a:blip r:embed="rId4"/>
          <a:stretch/>
        </p:blipFill>
        <p:spPr>
          <a:xfrm>
            <a:off x="1243080" y="3232080"/>
            <a:ext cx="368280" cy="41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Users\ежик\Desktop\гербы\150px-Coat_of_Arms_of_Ivanovo_Oblast.svg.png"/>
          <p:cNvPicPr/>
          <p:nvPr/>
        </p:nvPicPr>
        <p:blipFill>
          <a:blip r:embed="rId5"/>
          <a:stretch/>
        </p:blipFill>
        <p:spPr>
          <a:xfrm>
            <a:off x="1225440" y="3768840"/>
            <a:ext cx="470160" cy="32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1" descr="C:\Users\ежик\Desktop\гербы\150px-Coat_of_arms_of_Amur_Oblast.svg.png"/>
          <p:cNvPicPr/>
          <p:nvPr/>
        </p:nvPicPr>
        <p:blipFill>
          <a:blip r:embed="rId6"/>
          <a:stretch/>
        </p:blipFill>
        <p:spPr>
          <a:xfrm>
            <a:off x="1206360" y="1557360"/>
            <a:ext cx="419400" cy="4190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4608360" y="-6480"/>
            <a:ext cx="6739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Рейтинг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региональных администраторов начислений с ГИС ГМ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о состоянию на 14 сентября 2015 г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C:\Users\ежик\Desktop\гербы\120px-Coat_of_Arms_of_Kamchatka_Krai.svg.png"/>
          <p:cNvPicPr/>
          <p:nvPr/>
        </p:nvPicPr>
        <p:blipFill>
          <a:blip r:embed="rId7"/>
          <a:stretch/>
        </p:blipFill>
        <p:spPr>
          <a:xfrm>
            <a:off x="1243080" y="472752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ая со стрелкой 10" descr=""/>
          <p:cNvPicPr/>
          <p:nvPr/>
        </p:nvPicPr>
        <p:blipFill>
          <a:blip r:embed="rId8"/>
          <a:stretch/>
        </p:blipFill>
        <p:spPr>
          <a:xfrm>
            <a:off x="1884240" y="798480"/>
            <a:ext cx="9393480" cy="407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2"/>
          <p:cNvSpPr/>
          <p:nvPr/>
        </p:nvSpPr>
        <p:spPr>
          <a:xfrm>
            <a:off x="1390680" y="822240"/>
            <a:ext cx="6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ad47"/>
                </a:solidFill>
                <a:latin typeface="Garamond"/>
                <a:ea typeface="MS PGothic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8"/>
          <p:cNvSpPr/>
          <p:nvPr/>
        </p:nvSpPr>
        <p:spPr>
          <a:xfrm>
            <a:off x="11113920" y="793800"/>
            <a:ext cx="5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aramond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9" descr="C:\Users\ежик\Desktop\гербы\144px-Coat_of_Arms_of_Karachay-Cherkessia.svg.png"/>
          <p:cNvPicPr/>
          <p:nvPr/>
        </p:nvPicPr>
        <p:blipFill>
          <a:blip r:embed="rId9"/>
          <a:stretch/>
        </p:blipFill>
        <p:spPr>
          <a:xfrm>
            <a:off x="1212840" y="5275440"/>
            <a:ext cx="412920" cy="428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C:\Users\ежик\Desktop\гербы\141px-Coat_of_arms_of_Kemerovo_Oblast.svg.png"/>
          <p:cNvPicPr/>
          <p:nvPr/>
        </p:nvPicPr>
        <p:blipFill>
          <a:blip r:embed="rId10"/>
          <a:stretch/>
        </p:blipFill>
        <p:spPr>
          <a:xfrm>
            <a:off x="1236600" y="5792760"/>
            <a:ext cx="366840" cy="38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:\Users\ежик\Desktop\гербы\116px-Coat_of_arms_of_Kirov_Region.svg.png"/>
          <p:cNvPicPr/>
          <p:nvPr/>
        </p:nvPicPr>
        <p:blipFill>
          <a:blip r:embed="rId11"/>
          <a:stretch/>
        </p:blipFill>
        <p:spPr>
          <a:xfrm>
            <a:off x="1249200" y="6242040"/>
            <a:ext cx="324000" cy="41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Users\ежик\Desktop\гербы\144px-Coat_of_arms_of_Kurgan_Oblast.svg.png"/>
          <p:cNvPicPr/>
          <p:nvPr/>
        </p:nvPicPr>
        <p:blipFill>
          <a:blip r:embed="rId12"/>
          <a:stretch/>
        </p:blipFill>
        <p:spPr>
          <a:xfrm>
            <a:off x="2570040" y="1135080"/>
            <a:ext cx="37332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9" descr="C:\Users\ежик\Desktop\гербы\Coat_of_Arms_of_Lipetsk_oblast.png"/>
          <p:cNvPicPr/>
          <p:nvPr/>
        </p:nvPicPr>
        <p:blipFill>
          <a:blip r:embed="rId13"/>
          <a:stretch/>
        </p:blipFill>
        <p:spPr>
          <a:xfrm>
            <a:off x="2570040" y="2097000"/>
            <a:ext cx="349200" cy="43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C:\Users\ежик\Desktop\гербы\Coat_of_arms_of_Novosibirsk_oblast.svg.png"/>
          <p:cNvPicPr/>
          <p:nvPr/>
        </p:nvPicPr>
        <p:blipFill>
          <a:blip r:embed="rId14"/>
          <a:stretch/>
        </p:blipFill>
        <p:spPr>
          <a:xfrm>
            <a:off x="2552760" y="3772080"/>
            <a:ext cx="371520" cy="41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C:\Users\ежик\Desktop\гербы\129px-Coat_of_arms_of_Orenburg_Oblast.svg.png"/>
          <p:cNvPicPr/>
          <p:nvPr/>
        </p:nvPicPr>
        <p:blipFill>
          <a:blip r:embed="rId15"/>
          <a:stretch/>
        </p:blipFill>
        <p:spPr>
          <a:xfrm>
            <a:off x="2544840" y="4270320"/>
            <a:ext cx="369720" cy="425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C:\Users\ежик\Desktop\гербы\128px-Coat_of_Arms_of_Pskov_Oblast.svg.png"/>
          <p:cNvPicPr/>
          <p:nvPr/>
        </p:nvPicPr>
        <p:blipFill>
          <a:blip r:embed="rId16"/>
          <a:stretch/>
        </p:blipFill>
        <p:spPr>
          <a:xfrm>
            <a:off x="2536920" y="4711680"/>
            <a:ext cx="377640" cy="44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C:\Users\ежик\Desktop\гербы\122px-Coat_of_Arms_of_Buryatiya.svg.png"/>
          <p:cNvPicPr/>
          <p:nvPr/>
        </p:nvPicPr>
        <p:blipFill>
          <a:blip r:embed="rId17"/>
          <a:stretch/>
        </p:blipFill>
        <p:spPr>
          <a:xfrm>
            <a:off x="2567160" y="5283360"/>
            <a:ext cx="361800" cy="44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6" descr="C:\Users\ежик\Desktop\гербы\144px-Coat_of_Arms_of_Dagestan.svg.png"/>
          <p:cNvPicPr/>
          <p:nvPr/>
        </p:nvPicPr>
        <p:blipFill>
          <a:blip r:embed="rId18"/>
          <a:stretch/>
        </p:blipFill>
        <p:spPr>
          <a:xfrm>
            <a:off x="2554200" y="5800680"/>
            <a:ext cx="363600" cy="37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0" descr="C:\Users\ежик\Desktop\гербы\150px-Coat_of_Arms_of_Ingushetia.svg.png"/>
          <p:cNvPicPr/>
          <p:nvPr/>
        </p:nvPicPr>
        <p:blipFill>
          <a:blip r:embed="rId19"/>
          <a:stretch/>
        </p:blipFill>
        <p:spPr>
          <a:xfrm>
            <a:off x="2529000" y="624996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C:\Users\ежик\Desktop\гербы\130px-Coat_of_Arms_of_Kalmykia.svg.png"/>
          <p:cNvPicPr/>
          <p:nvPr/>
        </p:nvPicPr>
        <p:blipFill>
          <a:blip r:embed="rId20"/>
          <a:stretch/>
        </p:blipFill>
        <p:spPr>
          <a:xfrm>
            <a:off x="3892680" y="1131840"/>
            <a:ext cx="350640" cy="40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C:\Users\ежик\Desktop\гербы\150px-Coat_of_Arms_of_Sakha_(Yakutia).svg.png"/>
          <p:cNvPicPr/>
          <p:nvPr/>
        </p:nvPicPr>
        <p:blipFill>
          <a:blip r:embed="rId21"/>
          <a:stretch/>
        </p:blipFill>
        <p:spPr>
          <a:xfrm>
            <a:off x="3881520" y="2681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C:\Users\ежик\Desktop\гербы\150px-Coat_of_Arms_of_Tatarstan.svg.png"/>
          <p:cNvPicPr/>
          <p:nvPr/>
        </p:nvPicPr>
        <p:blipFill>
          <a:blip r:embed="rId22"/>
          <a:stretch/>
        </p:blipFill>
        <p:spPr>
          <a:xfrm>
            <a:off x="3876840" y="321156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C:\Users\ежик\Desktop\гербы\150px-Coat_of_arms_of_Tuva.svg.png"/>
          <p:cNvPicPr/>
          <p:nvPr/>
        </p:nvPicPr>
        <p:blipFill>
          <a:blip r:embed="rId23"/>
          <a:stretch/>
        </p:blipFill>
        <p:spPr>
          <a:xfrm>
            <a:off x="3881520" y="3762360"/>
            <a:ext cx="414360" cy="41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C:\Users\ежик\Desktop\гербы\87px-Coat_of_Arms_of_Saratov_oblast.svg.png"/>
          <p:cNvPicPr/>
          <p:nvPr/>
        </p:nvPicPr>
        <p:blipFill>
          <a:blip r:embed="rId24"/>
          <a:stretch/>
        </p:blipFill>
        <p:spPr>
          <a:xfrm>
            <a:off x="3943440" y="4692600"/>
            <a:ext cx="250560" cy="4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8" descr="C:\Users\ежик\Desktop\гербы\137px-Sakhalin_Oblast_Coat_of_Arms.svg.png"/>
          <p:cNvPicPr/>
          <p:nvPr/>
        </p:nvPicPr>
        <p:blipFill>
          <a:blip r:embed="rId25"/>
          <a:stretch/>
        </p:blipFill>
        <p:spPr>
          <a:xfrm>
            <a:off x="3887640" y="5281560"/>
            <a:ext cx="381240" cy="41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8" descr="C:\Users\ежик\Desktop\гербы\Coat_of_arms_of_Smolensk_oblast.svg.png"/>
          <p:cNvPicPr/>
          <p:nvPr/>
        </p:nvPicPr>
        <p:blipFill>
          <a:blip r:embed="rId26"/>
          <a:stretch/>
        </p:blipFill>
        <p:spPr>
          <a:xfrm>
            <a:off x="3882960" y="5786280"/>
            <a:ext cx="344520" cy="393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C:\Users\ежик\Desktop\гербы\342px-Coat_of_arms_of_Tambov_Oblast.svg.png"/>
          <p:cNvPicPr/>
          <p:nvPr/>
        </p:nvPicPr>
        <p:blipFill>
          <a:blip r:embed="rId27"/>
          <a:stretch/>
        </p:blipFill>
        <p:spPr>
          <a:xfrm>
            <a:off x="5216400" y="1114560"/>
            <a:ext cx="306360" cy="41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0" descr="C:\Users\ежик\Desktop\гербы\119px-Coat_of_Arms_of_Tver_oblast.png"/>
          <p:cNvPicPr/>
          <p:nvPr/>
        </p:nvPicPr>
        <p:blipFill>
          <a:blip r:embed="rId28"/>
          <a:stretch/>
        </p:blipFill>
        <p:spPr>
          <a:xfrm>
            <a:off x="5234040" y="1593720"/>
            <a:ext cx="311040" cy="39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4" descr="C:\Users\ежик\Desktop\гербы\Coat_of_Arms_of_Tula_oblast.png"/>
          <p:cNvPicPr/>
          <p:nvPr/>
        </p:nvPicPr>
        <p:blipFill>
          <a:blip r:embed="rId29"/>
          <a:stretch/>
        </p:blipFill>
        <p:spPr>
          <a:xfrm>
            <a:off x="5241960" y="2103480"/>
            <a:ext cx="288720" cy="411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9" descr="C:\Users\ежик\Desktop\гербы\Coat_of_Arms_of_Tyumen_oblast_large_(2009).png"/>
          <p:cNvPicPr/>
          <p:nvPr/>
        </p:nvPicPr>
        <p:blipFill>
          <a:blip r:embed="rId30"/>
          <a:stretch/>
        </p:blipFill>
        <p:spPr>
          <a:xfrm>
            <a:off x="5203800" y="2666880"/>
            <a:ext cx="468360" cy="354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3" descr="C:\Users\ежик\Desktop\гербы\147px-Coat_of_arms_of_Udmurtia.svg.png"/>
          <p:cNvPicPr/>
          <p:nvPr/>
        </p:nvPicPr>
        <p:blipFill>
          <a:blip r:embed="rId31"/>
          <a:stretch/>
        </p:blipFill>
        <p:spPr>
          <a:xfrm>
            <a:off x="5221440" y="3227400"/>
            <a:ext cx="395280" cy="40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2" descr="C:\Users\ежик\Desktop\гербы\27.png"/>
          <p:cNvPicPr/>
          <p:nvPr/>
        </p:nvPicPr>
        <p:blipFill>
          <a:blip r:embed="rId32"/>
          <a:stretch/>
        </p:blipFill>
        <p:spPr>
          <a:xfrm>
            <a:off x="5208480" y="3730680"/>
            <a:ext cx="412920" cy="493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C:\Users\ежик\Desktop\гербы\252px-Coat_of_Arms_of_Yamal_Nenetsia.svg.png"/>
          <p:cNvPicPr/>
          <p:nvPr/>
        </p:nvPicPr>
        <p:blipFill>
          <a:blip r:embed="rId33"/>
          <a:stretch/>
        </p:blipFill>
        <p:spPr>
          <a:xfrm>
            <a:off x="5240160" y="4262400"/>
            <a:ext cx="309600" cy="42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4" descr="C:\Users\ежик\Desktop\гербы\146px-Coat_of_arms_of_Nizhny_Novgorod_Region.svg.png"/>
          <p:cNvPicPr/>
          <p:nvPr/>
        </p:nvPicPr>
        <p:blipFill>
          <a:blip r:embed="rId34"/>
          <a:stretch/>
        </p:blipFill>
        <p:spPr>
          <a:xfrm>
            <a:off x="2533680" y="3200400"/>
            <a:ext cx="414360" cy="423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C:\Users\ежик\Desktop\гербы\150px-Coat_of_Arms_of_Sverdlovsk_oblast.svg.png"/>
          <p:cNvPicPr/>
          <p:nvPr/>
        </p:nvPicPr>
        <p:blipFill>
          <a:blip r:embed="rId35"/>
          <a:stretch/>
        </p:blipFill>
        <p:spPr>
          <a:xfrm>
            <a:off x="5197320" y="5265720"/>
            <a:ext cx="498600" cy="355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2" descr="C:\Users\ежик\Desktop\гербы\gerb_ryazanskoj_oblasti-600x627.png"/>
          <p:cNvPicPr/>
          <p:nvPr/>
        </p:nvPicPr>
        <p:blipFill>
          <a:blip r:embed="rId36"/>
          <a:stretch/>
        </p:blipFill>
        <p:spPr>
          <a:xfrm>
            <a:off x="3879720" y="4253040"/>
            <a:ext cx="411120" cy="43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5" descr="C:\Users\ежик\Desktop\гербы\119px-Coat_of_arms_of_Chelyabinsk_Oblast.svg.png"/>
          <p:cNvPicPr/>
          <p:nvPr/>
        </p:nvPicPr>
        <p:blipFill>
          <a:blip r:embed="rId37"/>
          <a:stretch/>
        </p:blipFill>
        <p:spPr>
          <a:xfrm>
            <a:off x="5234040" y="4708440"/>
            <a:ext cx="333360" cy="4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C:\Users\ежик\Desktop\гербы\121px-Coat_of_Arms_of_Krasnodar_Kray.svg.png"/>
          <p:cNvPicPr/>
          <p:nvPr/>
        </p:nvPicPr>
        <p:blipFill>
          <a:blip r:embed="rId38"/>
          <a:stretch/>
        </p:blipFill>
        <p:spPr>
          <a:xfrm>
            <a:off x="5216400" y="6224760"/>
            <a:ext cx="363600" cy="450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C:\Users\ежик\Desktop\гербы\Coat_of_Arms_of_Yugra.svg.png"/>
          <p:cNvPicPr/>
          <p:nvPr/>
        </p:nvPicPr>
        <p:blipFill>
          <a:blip r:embed="rId39"/>
          <a:stretch/>
        </p:blipFill>
        <p:spPr>
          <a:xfrm>
            <a:off x="6573960" y="1141560"/>
            <a:ext cx="355320" cy="392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:\Users\ежик\Desktop\гербы\144px-Coat_of_Arms_of_Kursk_oblast.svg.png"/>
          <p:cNvPicPr/>
          <p:nvPr/>
        </p:nvPicPr>
        <p:blipFill>
          <a:blip r:embed="rId40"/>
          <a:stretch/>
        </p:blipFill>
        <p:spPr>
          <a:xfrm>
            <a:off x="5200560" y="5769000"/>
            <a:ext cx="400320" cy="41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1" descr="C:\Users\ежик\Desktop\гербы\Coat_of_Arms_of_Bashkortostan.svg.png"/>
          <p:cNvPicPr/>
          <p:nvPr/>
        </p:nvPicPr>
        <p:blipFill>
          <a:blip r:embed="rId41"/>
          <a:stretch/>
        </p:blipFill>
        <p:spPr>
          <a:xfrm>
            <a:off x="6550200" y="1584360"/>
            <a:ext cx="368280" cy="38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0" descr="C:\Users\ежик\Desktop\гербы\145px-Coat_of_arms_of_Kaluga_Oblast.svg.png"/>
          <p:cNvPicPr/>
          <p:nvPr/>
        </p:nvPicPr>
        <p:blipFill>
          <a:blip r:embed="rId42"/>
          <a:stretch/>
        </p:blipFill>
        <p:spPr>
          <a:xfrm>
            <a:off x="1238400" y="4280040"/>
            <a:ext cx="37764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9" descr="C:\Users\ежик\Desktop\гербы\150px-Coat_of_arms_of_Voronezh_Oblast.svg.png"/>
          <p:cNvPicPr/>
          <p:nvPr/>
        </p:nvPicPr>
        <p:blipFill>
          <a:blip r:embed="rId43"/>
          <a:stretch/>
        </p:blipFill>
        <p:spPr>
          <a:xfrm>
            <a:off x="6548400" y="2666880"/>
            <a:ext cx="405000" cy="38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C:\Users\ежик\Desktop\гербы\147px-Coat_of_Arms_of_Chuvashia.svg.png"/>
          <p:cNvPicPr/>
          <p:nvPr/>
        </p:nvPicPr>
        <p:blipFill>
          <a:blip r:embed="rId44"/>
          <a:stretch/>
        </p:blipFill>
        <p:spPr>
          <a:xfrm>
            <a:off x="6561000" y="3213000"/>
            <a:ext cx="427320" cy="435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0" descr="C:\Users\ежик\Desktop\гербы\78px-Coat_of_Arms_of_Perm_oblast.png"/>
          <p:cNvPicPr/>
          <p:nvPr/>
        </p:nvPicPr>
        <p:blipFill>
          <a:blip r:embed="rId45"/>
          <a:stretch/>
        </p:blipFill>
        <p:spPr>
          <a:xfrm>
            <a:off x="6622920" y="3730680"/>
            <a:ext cx="271440" cy="523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9" descr="C:\Users\ежик\Desktop\гербы\150px-Coat_of_Arms_of_Altai_Republic.svg.png"/>
          <p:cNvPicPr/>
          <p:nvPr/>
        </p:nvPicPr>
        <p:blipFill>
          <a:blip r:embed="rId46"/>
          <a:stretch/>
        </p:blipFill>
        <p:spPr>
          <a:xfrm>
            <a:off x="6550200" y="2095560"/>
            <a:ext cx="404640" cy="40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2" descr="C:\Users\ежик\Desktop\гербы\143px-Coat_of_Arms_of_Rostov_oblast.png"/>
          <p:cNvPicPr/>
          <p:nvPr/>
        </p:nvPicPr>
        <p:blipFill>
          <a:blip r:embed="rId47"/>
          <a:stretch/>
        </p:blipFill>
        <p:spPr>
          <a:xfrm>
            <a:off x="6564240" y="4299120"/>
            <a:ext cx="360360" cy="37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6" descr="C:\Users\ежик\Desktop\гербы\133px-Coat_of_arms_of_Leningrad_Oblast.svg.png"/>
          <p:cNvPicPr/>
          <p:nvPr/>
        </p:nvPicPr>
        <p:blipFill>
          <a:blip r:embed="rId48"/>
          <a:stretch/>
        </p:blipFill>
        <p:spPr>
          <a:xfrm>
            <a:off x="2583000" y="1589040"/>
            <a:ext cx="336240" cy="399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7" descr="C:\Users\ежик\Desktop\гербы\119px-Coat_of_Arms_of_Magadan_oblast.svg.png"/>
          <p:cNvPicPr/>
          <p:nvPr/>
        </p:nvPicPr>
        <p:blipFill>
          <a:blip r:embed="rId49"/>
          <a:stretch/>
        </p:blipFill>
        <p:spPr>
          <a:xfrm>
            <a:off x="6572160" y="4737240"/>
            <a:ext cx="328680" cy="41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5" descr="C:\Users\ежик\Desktop\гербы\150px-Coat_of_arms_of_Kostroma_Oblast.svg.png"/>
          <p:cNvPicPr/>
          <p:nvPr/>
        </p:nvPicPr>
        <p:blipFill>
          <a:blip r:embed="rId50"/>
          <a:stretch/>
        </p:blipFill>
        <p:spPr>
          <a:xfrm>
            <a:off x="6508800" y="525780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8" descr="C:\Users\ежик\Desktop\гербы\150px-Coat_of_arms_of_Omsk_Oblast.svg.png"/>
          <p:cNvPicPr/>
          <p:nvPr/>
        </p:nvPicPr>
        <p:blipFill>
          <a:blip r:embed="rId51"/>
          <a:stretch/>
        </p:blipFill>
        <p:spPr>
          <a:xfrm>
            <a:off x="6526080" y="6224760"/>
            <a:ext cx="441360" cy="420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1" descr="C:\Users\ежик\Desktop\гербы\94px-Coat_of_Arms_of_Mari_El.svg.png"/>
          <p:cNvPicPr/>
          <p:nvPr/>
        </p:nvPicPr>
        <p:blipFill>
          <a:blip r:embed="rId52"/>
          <a:stretch/>
        </p:blipFill>
        <p:spPr>
          <a:xfrm>
            <a:off x="6607080" y="5778360"/>
            <a:ext cx="265320" cy="41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ежик\Desktop\гербы\73px-Герб_Астраханской_области.svg.png"/>
          <p:cNvPicPr/>
          <p:nvPr/>
        </p:nvPicPr>
        <p:blipFill>
          <a:blip r:embed="rId53"/>
          <a:stretch/>
        </p:blipFill>
        <p:spPr>
          <a:xfrm>
            <a:off x="7986600" y="1576440"/>
            <a:ext cx="217440" cy="44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1" descr="C:\Users\ежик\Desktop\гербы\113px-Gerb_of_Penza_region.png"/>
          <p:cNvPicPr/>
          <p:nvPr/>
        </p:nvPicPr>
        <p:blipFill>
          <a:blip r:embed="rId54"/>
          <a:stretch/>
        </p:blipFill>
        <p:spPr>
          <a:xfrm>
            <a:off x="7945560" y="2111400"/>
            <a:ext cx="315720" cy="417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2" descr="C:\Users\ежик\Desktop\гербы\150px-Coat_of_Arms_of_Yaroslavl_Oblast_(2011)_full.svg.png"/>
          <p:cNvPicPr/>
          <p:nvPr/>
        </p:nvPicPr>
        <p:blipFill>
          <a:blip r:embed="rId55"/>
          <a:stretch/>
        </p:blipFill>
        <p:spPr>
          <a:xfrm>
            <a:off x="7888320" y="1119240"/>
            <a:ext cx="387360" cy="38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6" descr="C:\Users\ежик\Desktop\гербы\111px-Герб_Мурманской_области.svg.png"/>
          <p:cNvPicPr/>
          <p:nvPr/>
        </p:nvPicPr>
        <p:blipFill>
          <a:blip r:embed="rId56"/>
          <a:stretch/>
        </p:blipFill>
        <p:spPr>
          <a:xfrm>
            <a:off x="7929720" y="2685960"/>
            <a:ext cx="330120" cy="44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5" descr="C:\Users\ежик\Desktop\гербы\150px-Coat_of_arms_of_Vladimiri_Oblast.svg.png"/>
          <p:cNvPicPr/>
          <p:nvPr/>
        </p:nvPicPr>
        <p:blipFill>
          <a:blip r:embed="rId57"/>
          <a:stretch/>
        </p:blipFill>
        <p:spPr>
          <a:xfrm>
            <a:off x="7864560" y="426240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2" descr="C:\Users\ежик\Desktop\гербы\126px-Full_coat_of_arms_of_Primorsky_Krai.svg.png"/>
          <p:cNvPicPr/>
          <p:nvPr/>
        </p:nvPicPr>
        <p:blipFill>
          <a:blip r:embed="rId58"/>
          <a:stretch/>
        </p:blipFill>
        <p:spPr>
          <a:xfrm>
            <a:off x="7918560" y="3198960"/>
            <a:ext cx="334800" cy="39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9" descr="C:\Users\ежик\Desktop\гербы\119px-Coat_of_Arms_of_Chukotka.png"/>
          <p:cNvPicPr/>
          <p:nvPr/>
        </p:nvPicPr>
        <p:blipFill>
          <a:blip r:embed="rId59"/>
          <a:stretch/>
        </p:blipFill>
        <p:spPr>
          <a:xfrm>
            <a:off x="7908840" y="4737240"/>
            <a:ext cx="347760" cy="43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3" descr="C:\Users\ежик\Desktop\гербы\Coat_of_Arms_of_Volgograd_oblast.svg.png"/>
          <p:cNvPicPr/>
          <p:nvPr/>
        </p:nvPicPr>
        <p:blipFill>
          <a:blip r:embed="rId60"/>
          <a:stretch/>
        </p:blipFill>
        <p:spPr>
          <a:xfrm>
            <a:off x="7883640" y="6226200"/>
            <a:ext cx="415800" cy="43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7" descr="C:\Users\ежик\Desktop\гербы\150px-Coat_of_arms_of_Tomsk_Oblast.png"/>
          <p:cNvPicPr/>
          <p:nvPr/>
        </p:nvPicPr>
        <p:blipFill>
          <a:blip r:embed="rId61"/>
          <a:stretch/>
        </p:blipFill>
        <p:spPr>
          <a:xfrm>
            <a:off x="7883640" y="5792760"/>
            <a:ext cx="412560" cy="37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0" descr="C:\Users\ежик\Desktop\гербы\114px-Coat_of_arms_of_Nenets_Autonomous_Okrug.svg.png"/>
          <p:cNvPicPr/>
          <p:nvPr/>
        </p:nvPicPr>
        <p:blipFill>
          <a:blip r:embed="rId62"/>
          <a:stretch/>
        </p:blipFill>
        <p:spPr>
          <a:xfrm>
            <a:off x="9232920" y="5257800"/>
            <a:ext cx="345960" cy="453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1" descr="C:\Users\ежик\Desktop\гербы\Coat_of_arms_of_Oryol_Oblast_(large).svg.png"/>
          <p:cNvPicPr/>
          <p:nvPr/>
        </p:nvPicPr>
        <p:blipFill>
          <a:blip r:embed="rId63"/>
          <a:stretch/>
        </p:blipFill>
        <p:spPr>
          <a:xfrm>
            <a:off x="9225000" y="1141560"/>
            <a:ext cx="271440" cy="365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7" descr="C:\Users\ежик\Desktop\гербы\123px-Coat_of_arms_of_Krasnoyarsk_Krai.svg.png"/>
          <p:cNvPicPr/>
          <p:nvPr/>
        </p:nvPicPr>
        <p:blipFill>
          <a:blip r:embed="rId64"/>
          <a:stretch/>
        </p:blipFill>
        <p:spPr>
          <a:xfrm>
            <a:off x="9209160" y="1582560"/>
            <a:ext cx="344520" cy="417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3" descr="C:\Users\ежик\Desktop\гербы\150px-Wapen_Ossetien.svg.png"/>
          <p:cNvPicPr/>
          <p:nvPr/>
        </p:nvPicPr>
        <p:blipFill>
          <a:blip r:embed="rId65"/>
          <a:stretch/>
        </p:blipFill>
        <p:spPr>
          <a:xfrm>
            <a:off x="7880400" y="3760920"/>
            <a:ext cx="415800" cy="417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6" descr="C:\Users\ежик\Desktop\гербы\128px-Coat_of_arms_of_Stavropol_Krai.svg.png"/>
          <p:cNvPicPr/>
          <p:nvPr/>
        </p:nvPicPr>
        <p:blipFill>
          <a:blip r:embed="rId66"/>
          <a:stretch/>
        </p:blipFill>
        <p:spPr>
          <a:xfrm>
            <a:off x="3887640" y="6230880"/>
            <a:ext cx="352440" cy="412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4" descr="C:\Users\ежик\Desktop\гербы\119px-Coat_of_arms_of_Vologda_oblast.svg.png"/>
          <p:cNvPicPr/>
          <p:nvPr/>
        </p:nvPicPr>
        <p:blipFill>
          <a:blip r:embed="rId67"/>
          <a:stretch/>
        </p:blipFill>
        <p:spPr>
          <a:xfrm>
            <a:off x="9244080" y="2157480"/>
            <a:ext cx="309600" cy="38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C:\Users\ежик\Desktop\гербы\65657_html_4a2686d3.png"/>
          <p:cNvPicPr/>
          <p:nvPr/>
        </p:nvPicPr>
        <p:blipFill>
          <a:blip r:embed="rId68"/>
          <a:stretch/>
        </p:blipFill>
        <p:spPr>
          <a:xfrm>
            <a:off x="9188280" y="2654280"/>
            <a:ext cx="420840" cy="45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0" descr="C:\Users\ежик\Desktop\гербы\Герб_Ульяновской_области_(2013).svg.png"/>
          <p:cNvPicPr/>
          <p:nvPr/>
        </p:nvPicPr>
        <p:blipFill>
          <a:blip r:embed="rId69"/>
          <a:stretch/>
        </p:blipFill>
        <p:spPr>
          <a:xfrm>
            <a:off x="7864560" y="5235480"/>
            <a:ext cx="469800" cy="444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3" descr="C:\Users\ежик\Desktop\гербы\136px-Coat_of_Arms_of_Mordovia.svg.png"/>
          <p:cNvPicPr/>
          <p:nvPr/>
        </p:nvPicPr>
        <p:blipFill>
          <a:blip r:embed="rId70"/>
          <a:stretch/>
        </p:blipFill>
        <p:spPr>
          <a:xfrm>
            <a:off x="9209160" y="3738600"/>
            <a:ext cx="388800" cy="428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6" descr="C:\Users\ежик\Desktop\гербы\124px-Kaliningrad_Oblast_Coat_of_Arms_2006.svg.png"/>
          <p:cNvPicPr/>
          <p:nvPr/>
        </p:nvPicPr>
        <p:blipFill>
          <a:blip r:embed="rId71"/>
          <a:stretch/>
        </p:blipFill>
        <p:spPr>
          <a:xfrm>
            <a:off x="9207360" y="4724280"/>
            <a:ext cx="362160" cy="438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5" descr="C:\Users\ежик\Desktop\гербы\Coat_of_Arms_of_Saint_Petersburg_(2003).svg.png"/>
          <p:cNvPicPr/>
          <p:nvPr/>
        </p:nvPicPr>
        <p:blipFill>
          <a:blip r:embed="rId72"/>
          <a:stretch/>
        </p:blipFill>
        <p:spPr>
          <a:xfrm>
            <a:off x="9205920" y="4307040"/>
            <a:ext cx="347760" cy="374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3" descr="C:\Users\ежик\Desktop\гербы\123px-Coat_of_Arms_of_Kabardino-Balkaria.svg.png"/>
          <p:cNvPicPr/>
          <p:nvPr/>
        </p:nvPicPr>
        <p:blipFill>
          <a:blip r:embed="rId73"/>
          <a:stretch/>
        </p:blipFill>
        <p:spPr>
          <a:xfrm>
            <a:off x="9229680" y="6272280"/>
            <a:ext cx="331920" cy="406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6" descr="C:\Users\ежик\Desktop\гербы\150px-Coat_of_arms_of_Chechnya.svg.png"/>
          <p:cNvPicPr/>
          <p:nvPr/>
        </p:nvPicPr>
        <p:blipFill>
          <a:blip r:embed="rId74"/>
          <a:stretch/>
        </p:blipFill>
        <p:spPr>
          <a:xfrm>
            <a:off x="10544040" y="1131840"/>
            <a:ext cx="389160" cy="39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2" descr="C:\Users\ежик\Desktop\гербы\150px-Coat_of_Arms_of_Arkhangelsk_oblast.svg.png"/>
          <p:cNvPicPr/>
          <p:nvPr/>
        </p:nvPicPr>
        <p:blipFill>
          <a:blip r:embed="rId75"/>
          <a:stretch/>
        </p:blipFill>
        <p:spPr>
          <a:xfrm>
            <a:off x="9183600" y="3203640"/>
            <a:ext cx="449280" cy="45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C:\Users\ежик\Desktop\гербы\150px-Coat_of_arms_of_Khakassia.svg.png"/>
          <p:cNvPicPr/>
          <p:nvPr/>
        </p:nvPicPr>
        <p:blipFill>
          <a:blip r:embed="rId76"/>
          <a:stretch/>
        </p:blipFill>
        <p:spPr>
          <a:xfrm>
            <a:off x="10539360" y="1609560"/>
            <a:ext cx="409680" cy="409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7" descr="C:\Users\ежик\Desktop\гербы\129px-Coat_of_Arms_of_the_Komi_Republic.svg.png"/>
          <p:cNvPicPr/>
          <p:nvPr/>
        </p:nvPicPr>
        <p:blipFill>
          <a:blip r:embed="rId77"/>
          <a:stretch/>
        </p:blipFill>
        <p:spPr>
          <a:xfrm>
            <a:off x="3909960" y="2138400"/>
            <a:ext cx="335160" cy="39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1" descr="C:\Users\ежик\Desktop\гербы\121px-Coat_of_arms_of_Irkutsk_Oblast.svg.png"/>
          <p:cNvPicPr/>
          <p:nvPr/>
        </p:nvPicPr>
        <p:blipFill>
          <a:blip r:embed="rId78"/>
          <a:stretch/>
        </p:blipFill>
        <p:spPr>
          <a:xfrm>
            <a:off x="10571040" y="2127240"/>
            <a:ext cx="336600" cy="41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C:\Users\ежик\Desktop\гербы\144px-Coat_of_Arms_of_Bryansk_Oblast.svg.png"/>
          <p:cNvPicPr/>
          <p:nvPr/>
        </p:nvPicPr>
        <p:blipFill>
          <a:blip r:embed="rId79"/>
          <a:stretch/>
        </p:blipFill>
        <p:spPr>
          <a:xfrm>
            <a:off x="10555200" y="2662200"/>
            <a:ext cx="412920" cy="444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7" descr="C:\Users\ежик\Desktop\гербы\Coat_of_arms_of_Adygea.svg.png"/>
          <p:cNvPicPr/>
          <p:nvPr/>
        </p:nvPicPr>
        <p:blipFill>
          <a:blip r:embed="rId80"/>
          <a:stretch/>
        </p:blipFill>
        <p:spPr>
          <a:xfrm>
            <a:off x="9202680" y="5800680"/>
            <a:ext cx="374760" cy="37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5" descr="C:\Users\ежик\Desktop\гербы\114px-Coat_of_arms_of_Moscow_Oblast_(large).svg.png"/>
          <p:cNvPicPr/>
          <p:nvPr/>
        </p:nvPicPr>
        <p:blipFill>
          <a:blip r:embed="rId81"/>
          <a:stretch/>
        </p:blipFill>
        <p:spPr>
          <a:xfrm>
            <a:off x="2562120" y="2643120"/>
            <a:ext cx="366840" cy="482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4" descr="C:\Users\ежик\Desktop\гербы\109px-Coat_of_Arms_of_Republic_of_Karelia.svg.png"/>
          <p:cNvPicPr/>
          <p:nvPr/>
        </p:nvPicPr>
        <p:blipFill>
          <a:blip r:embed="rId82"/>
          <a:stretch/>
        </p:blipFill>
        <p:spPr>
          <a:xfrm>
            <a:off x="3913200" y="1574640"/>
            <a:ext cx="314280" cy="4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0" descr="C:\Users\ежик\Desktop\гербы\126px-Coat_of_arms_of_Zabaykalsky_Krai.svg.png"/>
          <p:cNvPicPr/>
          <p:nvPr/>
        </p:nvPicPr>
        <p:blipFill>
          <a:blip r:embed="rId83"/>
          <a:stretch/>
        </p:blipFill>
        <p:spPr>
          <a:xfrm>
            <a:off x="10564920" y="3768840"/>
            <a:ext cx="365040" cy="433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8" descr="C:\Users\ежик\Desktop\гербы\127px-Coat_of_arms_of_Novgorod_Oblast.svg.png"/>
          <p:cNvPicPr/>
          <p:nvPr/>
        </p:nvPicPr>
        <p:blipFill>
          <a:blip r:embed="rId84"/>
          <a:stretch/>
        </p:blipFill>
        <p:spPr>
          <a:xfrm>
            <a:off x="10568160" y="3214800"/>
            <a:ext cx="360360" cy="42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2" descr="C:\Users\ежик\Desktop\гербы\Emblem_of_Crimea.svg.png"/>
          <p:cNvPicPr/>
          <p:nvPr/>
        </p:nvPicPr>
        <p:blipFill>
          <a:blip r:embed="rId85"/>
          <a:stretch/>
        </p:blipFill>
        <p:spPr>
          <a:xfrm>
            <a:off x="10564920" y="4278240"/>
            <a:ext cx="358560" cy="408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9" descr="C:\Users\ежик\Desktop\гербы\COA_of_Sevastopol.svg.png"/>
          <p:cNvPicPr/>
          <p:nvPr/>
        </p:nvPicPr>
        <p:blipFill>
          <a:blip r:embed="rId86"/>
          <a:stretch/>
        </p:blipFill>
        <p:spPr>
          <a:xfrm>
            <a:off x="10563120" y="4724280"/>
            <a:ext cx="352440" cy="427320"/>
          </a:xfrm>
          <a:prstGeom prst="rect">
            <a:avLst/>
          </a:prstGeom>
          <a:ln w="0">
            <a:noFill/>
          </a:ln>
        </p:spPr>
      </p:pic>
      <p:sp>
        <p:nvSpPr>
          <p:cNvPr id="133" name="Номер слайда 3"/>
          <p:cNvSpPr/>
          <p:nvPr/>
        </p:nvSpPr>
        <p:spPr>
          <a:xfrm>
            <a:off x="11163240" y="6294600"/>
            <a:ext cx="1028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396F-998C-4E85-A58A-47F0F760CAB9}" type="slidenum">
              <a:rPr b="1" lang="ru-RU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273320" y="1271520"/>
          <a:ext cx="10704240" cy="5235480"/>
        </p:xfrm>
        <a:graphic>
          <a:graphicData uri="http://schemas.openxmlformats.org/drawingml/2006/table">
            <a:tbl>
              <a:tblPr/>
              <a:tblGrid>
                <a:gridCol w="1209600"/>
                <a:gridCol w="1251000"/>
                <a:gridCol w="1234800"/>
                <a:gridCol w="1125720"/>
                <a:gridCol w="1193760"/>
                <a:gridCol w="1243080"/>
                <a:gridCol w="1225440"/>
                <a:gridCol w="1101960"/>
                <a:gridCol w="1118880"/>
              </a:tblGrid>
              <a:tr h="56052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тай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гуше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ваш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шкортоста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ря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7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ур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город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,4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кот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номны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у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4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м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5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212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димир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мык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траха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1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длов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6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а (Якут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1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хангель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че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1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врей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номн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5728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лгоград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нкт-Петербур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меров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96%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рма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6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кас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байкаль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8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астопо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1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уж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240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неж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ий Э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пец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геста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7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лов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МА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6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логод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6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ром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5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6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096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дар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ерн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етия-Ал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тов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6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ков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8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баров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8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яр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ьянов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5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е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6196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инград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жегород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8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мчат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город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дов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7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ров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5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нзе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7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ков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атов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мбов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7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али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8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оле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9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ининград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5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рослав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6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ыге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6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ец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номны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у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врополь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м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3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мурт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4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енбург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7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ор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4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4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я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4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сибир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ль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яза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2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р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1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ачаево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кес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5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тарста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,7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гада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2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7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т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юме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рга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2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ркут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9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ер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5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ябин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,5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бардино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лкарск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6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НА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9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Нижний колонтитул 3"/>
          <p:cNvSpPr/>
          <p:nvPr/>
        </p:nvSpPr>
        <p:spPr>
          <a:xfrm>
            <a:off x="4060800" y="0"/>
            <a:ext cx="8118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Рейтинг полноты и своевременности предоставления показателей субъектами Российской Федераци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 ГАС «Управление»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о состоянию на 14 сентября 2015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1884240" y="920880"/>
            <a:ext cx="9429840" cy="414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1380960" y="92700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ad47"/>
                </a:solidFill>
                <a:latin typeface="Garamond"/>
                <a:ea typeface="MS PGothic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88"/>
          <p:cNvSpPr/>
          <p:nvPr/>
        </p:nvSpPr>
        <p:spPr>
          <a:xfrm>
            <a:off x="11084040" y="922320"/>
            <a:ext cx="5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aramond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11138040" y="6356520"/>
            <a:ext cx="102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1B56-7C88-4675-95FD-D10AA931FC1F}" type="slidenum">
              <a:rPr b="1" lang="ru-RU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C:\Users\ежик\Desktop\гербы\144px-Coat_of_Arms_of_Altai_Krai.svg.png"/>
          <p:cNvPicPr/>
          <p:nvPr/>
        </p:nvPicPr>
        <p:blipFill>
          <a:blip r:embed="rId2"/>
          <a:stretch/>
        </p:blipFill>
        <p:spPr>
          <a:xfrm>
            <a:off x="1305000" y="1297080"/>
            <a:ext cx="406440" cy="422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C:\Users\ежик\Desktop\гербы\141px-Coat_of_arms_of_Kemerovo_Oblast.svg.png"/>
          <p:cNvPicPr/>
          <p:nvPr/>
        </p:nvPicPr>
        <p:blipFill>
          <a:blip r:embed="rId3"/>
          <a:stretch/>
        </p:blipFill>
        <p:spPr>
          <a:xfrm>
            <a:off x="5002200" y="2349360"/>
            <a:ext cx="398520" cy="4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6" descr="C:\Users\ежик\Desktop\гербы\133px-Coat_of_arms_of_Leningrad_Oblast.svg.png"/>
          <p:cNvPicPr/>
          <p:nvPr/>
        </p:nvPicPr>
        <p:blipFill>
          <a:blip r:embed="rId4"/>
          <a:stretch/>
        </p:blipFill>
        <p:spPr>
          <a:xfrm>
            <a:off x="1320840" y="389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4" descr="C:\Users\ежик\Desktop\гербы\146px-Coat_of_arms_of_Nizhny_Novgorod_Region.svg.png"/>
          <p:cNvPicPr/>
          <p:nvPr/>
        </p:nvPicPr>
        <p:blipFill>
          <a:blip r:embed="rId5"/>
          <a:stretch/>
        </p:blipFill>
        <p:spPr>
          <a:xfrm>
            <a:off x="3749760" y="3857760"/>
            <a:ext cx="414360" cy="423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5" descr="C:\Users\ежик\Desktop\гербы\114px-Coat_of_arms_of_Moscow_Oblast_(large).svg.png"/>
          <p:cNvPicPr/>
          <p:nvPr/>
        </p:nvPicPr>
        <p:blipFill>
          <a:blip r:embed="rId6"/>
          <a:stretch/>
        </p:blipFill>
        <p:spPr>
          <a:xfrm>
            <a:off x="1317600" y="4425840"/>
            <a:ext cx="335160" cy="439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9" descr="C:\Users\ежик\Desktop\гербы\Coat_of_Arms_of_Tyumen_oblast_large_(2009).png"/>
          <p:cNvPicPr/>
          <p:nvPr/>
        </p:nvPicPr>
        <p:blipFill>
          <a:blip r:embed="rId7"/>
          <a:stretch/>
        </p:blipFill>
        <p:spPr>
          <a:xfrm>
            <a:off x="2482920" y="5975280"/>
            <a:ext cx="541440" cy="409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C:\Users\ежик\Desktop\гербы\150px-Coat_of_arms_of_Omsk_Oblast.svg.png"/>
          <p:cNvPicPr/>
          <p:nvPr/>
        </p:nvPicPr>
        <p:blipFill>
          <a:blip r:embed="rId8"/>
          <a:stretch/>
        </p:blipFill>
        <p:spPr>
          <a:xfrm>
            <a:off x="3747960" y="4917960"/>
            <a:ext cx="462240" cy="441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2" descr="C:\Users\ежик\Desktop\гербы\143px-Coat_of_Arms_of_Rostov_oblast.png"/>
          <p:cNvPicPr/>
          <p:nvPr/>
        </p:nvPicPr>
        <p:blipFill>
          <a:blip r:embed="rId9"/>
          <a:stretch/>
        </p:blipFill>
        <p:spPr>
          <a:xfrm>
            <a:off x="5013360" y="3384720"/>
            <a:ext cx="412560" cy="433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C:\Users\ежик\Desktop\гербы\128px-Coat_of_Arms_of_Pskov_Oblast.svg.png"/>
          <p:cNvPicPr/>
          <p:nvPr/>
        </p:nvPicPr>
        <p:blipFill>
          <a:blip r:embed="rId10"/>
          <a:stretch/>
        </p:blipFill>
        <p:spPr>
          <a:xfrm>
            <a:off x="6130800" y="3362400"/>
            <a:ext cx="378000" cy="44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8" descr="C:\Users\ежик\Desktop\гербы\137px-Sakhalin_Oblast_Coat_of_Arms.svg.png"/>
          <p:cNvPicPr/>
          <p:nvPr/>
        </p:nvPicPr>
        <p:blipFill>
          <a:blip r:embed="rId11"/>
          <a:stretch/>
        </p:blipFill>
        <p:spPr>
          <a:xfrm>
            <a:off x="5002200" y="4435560"/>
            <a:ext cx="385920" cy="428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1" descr="C:\Users\ежик\Desktop\гербы\94px-Coat_of_Arms_of_Mari_El.svg.png"/>
          <p:cNvPicPr/>
          <p:nvPr/>
        </p:nvPicPr>
        <p:blipFill>
          <a:blip r:embed="rId12"/>
          <a:stretch/>
        </p:blipFill>
        <p:spPr>
          <a:xfrm>
            <a:off x="2562120" y="2886120"/>
            <a:ext cx="282600" cy="447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5" descr="C:\Users\ежик\Desktop\гербы\Coat_of_Arms_of_Saint_Petersburg_(2003).svg.png"/>
          <p:cNvPicPr/>
          <p:nvPr/>
        </p:nvPicPr>
        <p:blipFill>
          <a:blip r:embed="rId13"/>
          <a:stretch/>
        </p:blipFill>
        <p:spPr>
          <a:xfrm>
            <a:off x="3749760" y="2363760"/>
            <a:ext cx="380880" cy="4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4" descr="C:\Users\ежик\Desktop\гербы\147px-Coat_of_Arms_of_Chuvashia.svg.png"/>
          <p:cNvPicPr/>
          <p:nvPr/>
        </p:nvPicPr>
        <p:blipFill>
          <a:blip r:embed="rId14"/>
          <a:stretch/>
        </p:blipFill>
        <p:spPr>
          <a:xfrm>
            <a:off x="3782880" y="1317600"/>
            <a:ext cx="409680" cy="417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7" descr="C:\Users\ежик\Desktop\гербы\87px-Coat_of_Arms_of_Saratov_oblast.svg.png"/>
          <p:cNvPicPr/>
          <p:nvPr/>
        </p:nvPicPr>
        <p:blipFill>
          <a:blip r:embed="rId15"/>
          <a:stretch/>
        </p:blipFill>
        <p:spPr>
          <a:xfrm>
            <a:off x="2565360" y="4414680"/>
            <a:ext cx="250920" cy="433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C:\Users\ежик\Desktop\гербы\144px-Coat_of_arms_of_Kurgan_Oblast.svg.png"/>
          <p:cNvPicPr/>
          <p:nvPr/>
        </p:nvPicPr>
        <p:blipFill>
          <a:blip r:embed="rId16"/>
          <a:stretch/>
        </p:blipFill>
        <p:spPr>
          <a:xfrm>
            <a:off x="3770280" y="5985000"/>
            <a:ext cx="409680" cy="42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ежик\Desktop\гербы\73px-Герб_Астраханской_области.svg.png"/>
          <p:cNvPicPr/>
          <p:nvPr/>
        </p:nvPicPr>
        <p:blipFill>
          <a:blip r:embed="rId17"/>
          <a:stretch/>
        </p:blipFill>
        <p:spPr>
          <a:xfrm>
            <a:off x="5068800" y="1836720"/>
            <a:ext cx="217440" cy="447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:\Users\ежик\Desktop\гербы\126px-Coat_of_Arms_of_Moscow.svg.png"/>
          <p:cNvPicPr/>
          <p:nvPr/>
        </p:nvPicPr>
        <p:blipFill>
          <a:blip r:embed="rId18"/>
          <a:stretch/>
        </p:blipFill>
        <p:spPr>
          <a:xfrm>
            <a:off x="3798720" y="1870200"/>
            <a:ext cx="358920" cy="423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9" descr="C:\Users\ежик\Desktop\гербы\150px-Coat_of_arms_of_Voronezh_Oblast.svg.png"/>
          <p:cNvPicPr/>
          <p:nvPr/>
        </p:nvPicPr>
        <p:blipFill>
          <a:blip r:embed="rId19"/>
          <a:stretch/>
        </p:blipFill>
        <p:spPr>
          <a:xfrm>
            <a:off x="1308240" y="2900520"/>
            <a:ext cx="380880" cy="401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0" descr="C:\Users\ежик\Desktop\гербы\114px-Coat_of_arms_of_Nenets_Autonomous_Okrug.svg.png"/>
          <p:cNvPicPr/>
          <p:nvPr/>
        </p:nvPicPr>
        <p:blipFill>
          <a:blip r:embed="rId20"/>
          <a:stretch/>
        </p:blipFill>
        <p:spPr>
          <a:xfrm>
            <a:off x="1317600" y="4897440"/>
            <a:ext cx="345960" cy="453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6" descr="C:\Users\ежик\Desktop\гербы\111px-Герб_Мурманской_области.svg.png"/>
          <p:cNvPicPr/>
          <p:nvPr/>
        </p:nvPicPr>
        <p:blipFill>
          <a:blip r:embed="rId21"/>
          <a:stretch/>
        </p:blipFill>
        <p:spPr>
          <a:xfrm>
            <a:off x="6148440" y="2373480"/>
            <a:ext cx="336600" cy="45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9" descr="C:\Users\ежик\Desktop\гербы\Coat_of_Arms_of_Lipetsk_oblast.png"/>
          <p:cNvPicPr/>
          <p:nvPr/>
        </p:nvPicPr>
        <p:blipFill>
          <a:blip r:embed="rId22"/>
          <a:stretch/>
        </p:blipFill>
        <p:spPr>
          <a:xfrm>
            <a:off x="3790800" y="2871720"/>
            <a:ext cx="349560" cy="434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9" descr="C:\Users\ежик\Desktop\гербы\150px-Coat_of_Arms_of_Altai_Republic.svg.png"/>
          <p:cNvPicPr/>
          <p:nvPr/>
        </p:nvPicPr>
        <p:blipFill>
          <a:blip r:embed="rId23"/>
          <a:stretch/>
        </p:blipFill>
        <p:spPr>
          <a:xfrm>
            <a:off x="1281240" y="5996160"/>
            <a:ext cx="425160" cy="423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1" descr="C:\Users\ежик\Desktop\гербы\Coat_of_arms_of_Oryol_Oblast_(large).svg.png"/>
          <p:cNvPicPr/>
          <p:nvPr/>
        </p:nvPicPr>
        <p:blipFill>
          <a:blip r:embed="rId24"/>
          <a:stretch/>
        </p:blipFill>
        <p:spPr>
          <a:xfrm>
            <a:off x="6140520" y="2884320"/>
            <a:ext cx="323640" cy="438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8" descr="C:\Users\ежик\Desktop\гербы\127px-Coat_of_arms_of_Novgorod_Oblast.svg.png"/>
          <p:cNvPicPr/>
          <p:nvPr/>
        </p:nvPicPr>
        <p:blipFill>
          <a:blip r:embed="rId25"/>
          <a:stretch/>
        </p:blipFill>
        <p:spPr>
          <a:xfrm>
            <a:off x="6149880" y="3882960"/>
            <a:ext cx="360360" cy="426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8" descr="C:\Users\ежик\Desktop\гербы\Coat_of_arms_of_Smolensk_oblast.svg.png"/>
          <p:cNvPicPr/>
          <p:nvPr/>
        </p:nvPicPr>
        <p:blipFill>
          <a:blip r:embed="rId26"/>
          <a:stretch/>
        </p:blipFill>
        <p:spPr>
          <a:xfrm>
            <a:off x="6124680" y="4406760"/>
            <a:ext cx="388800" cy="446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3" descr="C:\Users\ежик\Desktop\гербы\147px-Coat_of_arms_of_Udmurtia.svg.png"/>
          <p:cNvPicPr/>
          <p:nvPr/>
        </p:nvPicPr>
        <p:blipFill>
          <a:blip r:embed="rId27"/>
          <a:stretch/>
        </p:blipFill>
        <p:spPr>
          <a:xfrm>
            <a:off x="5005440" y="4932360"/>
            <a:ext cx="395280" cy="403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0" descr="C:\Users\ежик\Desktop\гербы\119px-Coat_of_Arms_of_Tver_oblast.png"/>
          <p:cNvPicPr/>
          <p:nvPr/>
        </p:nvPicPr>
        <p:blipFill>
          <a:blip r:embed="rId28"/>
          <a:stretch/>
        </p:blipFill>
        <p:spPr>
          <a:xfrm>
            <a:off x="6135840" y="5981760"/>
            <a:ext cx="358560" cy="45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6" descr="C:\Users\ежик\Desktop\гербы\342px-Coat_of_arms_of_Tambov_Oblast.svg.png"/>
          <p:cNvPicPr/>
          <p:nvPr/>
        </p:nvPicPr>
        <p:blipFill>
          <a:blip r:embed="rId29"/>
          <a:stretch/>
        </p:blipFill>
        <p:spPr>
          <a:xfrm>
            <a:off x="3768840" y="4386240"/>
            <a:ext cx="328320" cy="441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3" descr="C:\Users\ежик\Desktop\гербы\Coat_of_Arms_of_Volgograd_oblast.svg.png"/>
          <p:cNvPicPr/>
          <p:nvPr/>
        </p:nvPicPr>
        <p:blipFill>
          <a:blip r:embed="rId30"/>
          <a:stretch/>
        </p:blipFill>
        <p:spPr>
          <a:xfrm>
            <a:off x="1301760" y="2359080"/>
            <a:ext cx="393840" cy="406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6" descr="C:\Users\ежик\Desktop\гербы\124px-Kaliningrad_Oblast_Coat_of_Arms_2006.svg.png"/>
          <p:cNvPicPr/>
          <p:nvPr/>
        </p:nvPicPr>
        <p:blipFill>
          <a:blip r:embed="rId31"/>
          <a:stretch/>
        </p:blipFill>
        <p:spPr>
          <a:xfrm>
            <a:off x="7316640" y="4419720"/>
            <a:ext cx="366840" cy="444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5" descr="C:\Users\ежик\Desktop\гербы\65657_html_4a2686d3.png"/>
          <p:cNvPicPr/>
          <p:nvPr/>
        </p:nvPicPr>
        <p:blipFill>
          <a:blip r:embed="rId32"/>
          <a:stretch/>
        </p:blipFill>
        <p:spPr>
          <a:xfrm>
            <a:off x="3730680" y="3359160"/>
            <a:ext cx="438120" cy="469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5" descr="C:\Users\ежик\Desktop\гербы\150px-Coat_of_arms_of_Khakassia.svg.png"/>
          <p:cNvPicPr/>
          <p:nvPr/>
        </p:nvPicPr>
        <p:blipFill>
          <a:blip r:embed="rId33"/>
          <a:stretch/>
        </p:blipFill>
        <p:spPr>
          <a:xfrm>
            <a:off x="7323120" y="2362320"/>
            <a:ext cx="439920" cy="439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4" descr="C:\Users\ежик\Desktop\гербы\Coat_of_Arms_of_Tula_oblast.png"/>
          <p:cNvPicPr/>
          <p:nvPr/>
        </p:nvPicPr>
        <p:blipFill>
          <a:blip r:embed="rId34"/>
          <a:stretch/>
        </p:blipFill>
        <p:spPr>
          <a:xfrm>
            <a:off x="2541600" y="5465880"/>
            <a:ext cx="314280" cy="449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C:\Users\ежик\Desktop\гербы\121px-Coat_of_Arms_of_Krasnodar_Kray.svg.png"/>
          <p:cNvPicPr/>
          <p:nvPr/>
        </p:nvPicPr>
        <p:blipFill>
          <a:blip r:embed="rId35"/>
          <a:stretch/>
        </p:blipFill>
        <p:spPr>
          <a:xfrm>
            <a:off x="1309680" y="3376440"/>
            <a:ext cx="357120" cy="444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C:\Users\ежик\Desktop\гербы\Coat_of_arms_of_Novosibirsk_oblast.svg.png"/>
          <p:cNvPicPr/>
          <p:nvPr/>
        </p:nvPicPr>
        <p:blipFill>
          <a:blip r:embed="rId36"/>
          <a:stretch/>
        </p:blipFill>
        <p:spPr>
          <a:xfrm>
            <a:off x="1290600" y="5502240"/>
            <a:ext cx="371520" cy="417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8" descr="C:\Users\ежик\Desktop\гербы\144px-Coat_of_Arms_of_Bryansk_Oblast.svg.png"/>
          <p:cNvPicPr/>
          <p:nvPr/>
        </p:nvPicPr>
        <p:blipFill>
          <a:blip r:embed="rId37"/>
          <a:stretch/>
        </p:blipFill>
        <p:spPr>
          <a:xfrm>
            <a:off x="9807480" y="4908600"/>
            <a:ext cx="412920" cy="436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C:\Users\ежик\Desktop\гербы\129px-Coat_of_arms_of_Orenburg_Oblast.svg.png"/>
          <p:cNvPicPr/>
          <p:nvPr/>
        </p:nvPicPr>
        <p:blipFill>
          <a:blip r:embed="rId38"/>
          <a:stretch/>
        </p:blipFill>
        <p:spPr>
          <a:xfrm>
            <a:off x="6118200" y="4929120"/>
            <a:ext cx="384120" cy="443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9" descr="C:\Users\ежик\Desktop\гербы\COA_of_Sevastopol.svg.png"/>
          <p:cNvPicPr/>
          <p:nvPr/>
        </p:nvPicPr>
        <p:blipFill>
          <a:blip r:embed="rId39"/>
          <a:stretch/>
        </p:blipFill>
        <p:spPr>
          <a:xfrm>
            <a:off x="9809280" y="2384280"/>
            <a:ext cx="369720" cy="447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3" descr="C:\Users\ежик\Desktop\гербы\150px-Wapen_Ossetien.svg.png"/>
          <p:cNvPicPr/>
          <p:nvPr/>
        </p:nvPicPr>
        <p:blipFill>
          <a:blip r:embed="rId40"/>
          <a:stretch/>
        </p:blipFill>
        <p:spPr>
          <a:xfrm>
            <a:off x="2516040" y="3397320"/>
            <a:ext cx="355680" cy="357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2" descr="C:\Users\ежик\Desktop\гербы\Emblem_of_Crimea.svg.png"/>
          <p:cNvPicPr/>
          <p:nvPr/>
        </p:nvPicPr>
        <p:blipFill>
          <a:blip r:embed="rId41"/>
          <a:stretch/>
        </p:blipFill>
        <p:spPr>
          <a:xfrm>
            <a:off x="10902960" y="2889360"/>
            <a:ext cx="374760" cy="425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0" descr="C:\Users\ежик\Desktop\гербы\78px-Coat_of_Arms_of_Perm_oblast.png"/>
          <p:cNvPicPr/>
          <p:nvPr/>
        </p:nvPicPr>
        <p:blipFill>
          <a:blip r:embed="rId42"/>
          <a:stretch/>
        </p:blipFill>
        <p:spPr>
          <a:xfrm>
            <a:off x="8624880" y="4925880"/>
            <a:ext cx="225360" cy="435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3" descr="C:\Users\ежик\Desktop\гербы\123px-Coat_of_Arms_of_Kabardino-Balkaria.svg.png"/>
          <p:cNvPicPr/>
          <p:nvPr/>
        </p:nvPicPr>
        <p:blipFill>
          <a:blip r:embed="rId43"/>
          <a:stretch/>
        </p:blipFill>
        <p:spPr>
          <a:xfrm>
            <a:off x="8575560" y="6002280"/>
            <a:ext cx="362160" cy="442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C:\Users\ежик\Desktop\гербы\120px-Coat_of_Arms_of_Kamchatka_Krai.svg.png"/>
          <p:cNvPicPr/>
          <p:nvPr/>
        </p:nvPicPr>
        <p:blipFill>
          <a:blip r:embed="rId44"/>
          <a:stretch/>
        </p:blipFill>
        <p:spPr>
          <a:xfrm>
            <a:off x="5022720" y="387360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4" descr="C:\Users\ежик\Desktop\гербы\150px-Coat_of_Arms_of_Tatarstan.svg.png"/>
          <p:cNvPicPr/>
          <p:nvPr/>
        </p:nvPicPr>
        <p:blipFill>
          <a:blip r:embed="rId45"/>
          <a:stretch/>
        </p:blipFill>
        <p:spPr>
          <a:xfrm>
            <a:off x="7292880" y="5470560"/>
            <a:ext cx="453960" cy="455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C:\Users\ежик\Desktop\гербы\122px-Coat_of_Arms_of_Buryatiya.svg.png"/>
          <p:cNvPicPr/>
          <p:nvPr/>
        </p:nvPicPr>
        <p:blipFill>
          <a:blip r:embed="rId46"/>
          <a:stretch/>
        </p:blipFill>
        <p:spPr>
          <a:xfrm>
            <a:off x="6151680" y="1319040"/>
            <a:ext cx="357120" cy="439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Users\ежик\Desktop\гербы\Новая папка\117px-Coat_of_Arms_Belgorod_Oblast.svg.png"/>
          <p:cNvPicPr/>
          <p:nvPr/>
        </p:nvPicPr>
        <p:blipFill>
          <a:blip r:embed="rId47"/>
          <a:stretch/>
        </p:blipFill>
        <p:spPr>
          <a:xfrm>
            <a:off x="8569440" y="1328760"/>
            <a:ext cx="353880" cy="455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4" descr="C:\Users\ежик\Desktop\гербы\119px-Coat_of_arms_of_Vologda_oblast.svg.png"/>
          <p:cNvPicPr/>
          <p:nvPr/>
        </p:nvPicPr>
        <p:blipFill>
          <a:blip r:embed="rId48"/>
          <a:stretch/>
        </p:blipFill>
        <p:spPr>
          <a:xfrm>
            <a:off x="8589960" y="2913120"/>
            <a:ext cx="353880" cy="441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1" descr="C:\Users\ежик\Desktop\гербы\252px-Coat_of_Arms_of_Yamal_Nenetsia.svg.png"/>
          <p:cNvPicPr/>
          <p:nvPr/>
        </p:nvPicPr>
        <p:blipFill>
          <a:blip r:embed="rId49"/>
          <a:stretch/>
        </p:blipFill>
        <p:spPr>
          <a:xfrm>
            <a:off x="9828360" y="5965920"/>
            <a:ext cx="330120" cy="447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C:\Users\ежик\Desktop\гербы\144px-Coat_of_Arms_of_Kursk_oblast.svg.png"/>
          <p:cNvPicPr/>
          <p:nvPr/>
        </p:nvPicPr>
        <p:blipFill>
          <a:blip r:embed="rId50"/>
          <a:stretch/>
        </p:blipFill>
        <p:spPr>
          <a:xfrm>
            <a:off x="4997520" y="5457960"/>
            <a:ext cx="422280" cy="438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3" descr="C:\Users\ежик\Desktop\гербы\150px-Coat_of_Arms_of_Sakha_(Yakutia).svg.png"/>
          <p:cNvPicPr/>
          <p:nvPr/>
        </p:nvPicPr>
        <p:blipFill>
          <a:blip r:embed="rId51"/>
          <a:stretch/>
        </p:blipFill>
        <p:spPr>
          <a:xfrm>
            <a:off x="7338960" y="1870200"/>
            <a:ext cx="409680" cy="409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7" descr="C:\Users\ежик\Desktop\гербы\Coat_of_arms_of_Adygea.svg.png"/>
          <p:cNvPicPr/>
          <p:nvPr/>
        </p:nvPicPr>
        <p:blipFill>
          <a:blip r:embed="rId52"/>
          <a:stretch/>
        </p:blipFill>
        <p:spPr>
          <a:xfrm>
            <a:off x="9788400" y="4435560"/>
            <a:ext cx="441360" cy="439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2" descr="C:\Users\ежик\Desktop\гербы\126px-Full_coat_of_arms_of_Primorsky_Krai.svg.png"/>
          <p:cNvPicPr/>
          <p:nvPr/>
        </p:nvPicPr>
        <p:blipFill>
          <a:blip r:embed="rId53"/>
          <a:stretch/>
        </p:blipFill>
        <p:spPr>
          <a:xfrm>
            <a:off x="7332840" y="4940280"/>
            <a:ext cx="357120" cy="423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7" descr="C:\Users\ежик\Desktop\гербы\123px-Coat_of_arms_of_Krasnoyarsk_Krai.svg.png"/>
          <p:cNvPicPr/>
          <p:nvPr/>
        </p:nvPicPr>
        <p:blipFill>
          <a:blip r:embed="rId54"/>
          <a:stretch/>
        </p:blipFill>
        <p:spPr>
          <a:xfrm>
            <a:off x="8575560" y="3389400"/>
            <a:ext cx="349200" cy="423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0" descr="C:\Users\ежик\Desktop\гербы\126px-Coat_of_arms_of_Zabaykalsky_Krai.svg.png"/>
          <p:cNvPicPr/>
          <p:nvPr/>
        </p:nvPicPr>
        <p:blipFill>
          <a:blip r:embed="rId55"/>
          <a:stretch/>
        </p:blipFill>
        <p:spPr>
          <a:xfrm>
            <a:off x="8583480" y="2386080"/>
            <a:ext cx="381240" cy="453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C:\Users\ежик\Desktop\гербы\116px-Coat_of_arms_of_Kirov_Region.svg.png"/>
          <p:cNvPicPr/>
          <p:nvPr/>
        </p:nvPicPr>
        <p:blipFill>
          <a:blip r:embed="rId56"/>
          <a:stretch/>
        </p:blipFill>
        <p:spPr>
          <a:xfrm>
            <a:off x="8599320" y="3913200"/>
            <a:ext cx="335160" cy="430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9" descr="C:\Users\ежик\Desktop\гербы\144px-Coat_of_Arms_of_Karachay-Cherkessia.svg.png"/>
          <p:cNvPicPr/>
          <p:nvPr/>
        </p:nvPicPr>
        <p:blipFill>
          <a:blip r:embed="rId57"/>
          <a:stretch/>
        </p:blipFill>
        <p:spPr>
          <a:xfrm>
            <a:off x="6108840" y="5465880"/>
            <a:ext cx="438120" cy="453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2" descr="C:\Users\ежик\Desktop\гербы\150px-Coat_of_Arms_of_Yaroslavl_Oblast_(2011)_full.svg.png"/>
          <p:cNvPicPr/>
          <p:nvPr/>
        </p:nvPicPr>
        <p:blipFill>
          <a:blip r:embed="rId58"/>
          <a:stretch/>
        </p:blipFill>
        <p:spPr>
          <a:xfrm>
            <a:off x="8569440" y="4410000"/>
            <a:ext cx="439560" cy="43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0" descr="C:\Users\ежик\Desktop\гербы\150px-Coat_of_Arms_of_Ingushetia.svg.png"/>
          <p:cNvPicPr/>
          <p:nvPr/>
        </p:nvPicPr>
        <p:blipFill>
          <a:blip r:embed="rId59"/>
          <a:stretch/>
        </p:blipFill>
        <p:spPr>
          <a:xfrm>
            <a:off x="2505240" y="1324080"/>
            <a:ext cx="441000" cy="439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2" descr="C:\Users\ежик\Desktop\гербы\130px-Coat_of_Arms_of_Kalmykia.svg.png"/>
          <p:cNvPicPr/>
          <p:nvPr/>
        </p:nvPicPr>
        <p:blipFill>
          <a:blip r:embed="rId60"/>
          <a:stretch/>
        </p:blipFill>
        <p:spPr>
          <a:xfrm>
            <a:off x="2533680" y="1857240"/>
            <a:ext cx="374760" cy="433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7" descr="C:\Users\ежик\Desktop\гербы\150px-Coat_of_arms_of_Tomsk_Oblast.png"/>
          <p:cNvPicPr/>
          <p:nvPr/>
        </p:nvPicPr>
        <p:blipFill>
          <a:blip r:embed="rId61"/>
          <a:stretch/>
        </p:blipFill>
        <p:spPr>
          <a:xfrm>
            <a:off x="10909440" y="1328760"/>
            <a:ext cx="449280" cy="412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1" descr="C:\Users\ежик\Desktop\гербы\150px-Coat_of_arms_of_Amur_Oblast.svg.png"/>
          <p:cNvPicPr/>
          <p:nvPr/>
        </p:nvPicPr>
        <p:blipFill>
          <a:blip r:embed="rId62"/>
          <a:stretch/>
        </p:blipFill>
        <p:spPr>
          <a:xfrm>
            <a:off x="7321680" y="13003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7" descr="C:\Users\ежик\Desktop\гербы\119px-Coat_of_Arms_of_Magadan_oblast.svg.png"/>
          <p:cNvPicPr/>
          <p:nvPr/>
        </p:nvPicPr>
        <p:blipFill>
          <a:blip r:embed="rId63"/>
          <a:stretch/>
        </p:blipFill>
        <p:spPr>
          <a:xfrm>
            <a:off x="8569440" y="5483160"/>
            <a:ext cx="368280" cy="463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5" descr="C:\Users\ежик\Desktop\гербы\119px-Coat_of_arms_of_Chelyabinsk_Oblast.svg.png"/>
          <p:cNvPicPr/>
          <p:nvPr/>
        </p:nvPicPr>
        <p:blipFill>
          <a:blip r:embed="rId64"/>
          <a:stretch/>
        </p:blipFill>
        <p:spPr>
          <a:xfrm>
            <a:off x="7331040" y="5958000"/>
            <a:ext cx="352440" cy="446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6" descr="C:\Users\ежик\Desktop\гербы\144px-Coat_of_Arms_of_Dagestan.svg.png"/>
          <p:cNvPicPr/>
          <p:nvPr/>
        </p:nvPicPr>
        <p:blipFill>
          <a:blip r:embed="rId65"/>
          <a:stretch/>
        </p:blipFill>
        <p:spPr>
          <a:xfrm>
            <a:off x="5014800" y="2894040"/>
            <a:ext cx="409680" cy="428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2" descr="C:\Users\ежик\Desktop\гербы\150px-Coat_of_Arms_of_Arkhangelsk_oblast.svg.png"/>
          <p:cNvPicPr/>
          <p:nvPr/>
        </p:nvPicPr>
        <p:blipFill>
          <a:blip r:embed="rId66"/>
          <a:stretch/>
        </p:blipFill>
        <p:spPr>
          <a:xfrm>
            <a:off x="8555040" y="1835280"/>
            <a:ext cx="449280" cy="450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C:\Users\ежик\Desktop\гербы\Coat_of_Arms_of_Yugra.svg.png"/>
          <p:cNvPicPr/>
          <p:nvPr/>
        </p:nvPicPr>
        <p:blipFill>
          <a:blip r:embed="rId67"/>
          <a:stretch/>
        </p:blipFill>
        <p:spPr>
          <a:xfrm>
            <a:off x="7338960" y="2892600"/>
            <a:ext cx="392040" cy="433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7" descr="C:\Users\ежик\Desktop\гербы\129px-Coat_of_Arms_of_the_Komi_Republic.svg.png"/>
          <p:cNvPicPr/>
          <p:nvPr/>
        </p:nvPicPr>
        <p:blipFill>
          <a:blip r:embed="rId68"/>
          <a:stretch/>
        </p:blipFill>
        <p:spPr>
          <a:xfrm>
            <a:off x="2525760" y="2370240"/>
            <a:ext cx="377640" cy="441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5" descr="C:\Users\ежик\Desktop\гербы\150px-Coat_of_arms_of_Vladimiri_Oblast.svg.png"/>
          <p:cNvPicPr/>
          <p:nvPr/>
        </p:nvPicPr>
        <p:blipFill>
          <a:blip r:embed="rId69"/>
          <a:stretch/>
        </p:blipFill>
        <p:spPr>
          <a:xfrm>
            <a:off x="1282680" y="1854360"/>
            <a:ext cx="455760" cy="455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5" descr="C:\Users\ежик\Desktop\гербы\150px-Coat_of_arms_of_Kostroma_Oblast.svg.png"/>
          <p:cNvPicPr/>
          <p:nvPr/>
        </p:nvPicPr>
        <p:blipFill>
          <a:blip r:embed="rId70"/>
          <a:stretch/>
        </p:blipFill>
        <p:spPr>
          <a:xfrm>
            <a:off x="9744120" y="2894040"/>
            <a:ext cx="509400" cy="43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3" descr="C:\Users\ежик\Desktop\гербы\136px-Coat_of_Arms_of_Mordovia.svg.png"/>
          <p:cNvPicPr/>
          <p:nvPr/>
        </p:nvPicPr>
        <p:blipFill>
          <a:blip r:embed="rId71"/>
          <a:stretch/>
        </p:blipFill>
        <p:spPr>
          <a:xfrm>
            <a:off x="7326360" y="3868560"/>
            <a:ext cx="388800" cy="428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6" descr="C:\Users\ежик\Desktop\гербы\150px-Coat_of_arms_of_Tuva.svg.png"/>
          <p:cNvPicPr/>
          <p:nvPr/>
        </p:nvPicPr>
        <p:blipFill>
          <a:blip r:embed="rId72"/>
          <a:stretch/>
        </p:blipFill>
        <p:spPr>
          <a:xfrm>
            <a:off x="2508120" y="3865680"/>
            <a:ext cx="427320" cy="423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0" descr="C:\Users\ежик\Desktop\гербы\Герб_Ульяновской_области_(2013).svg.png"/>
          <p:cNvPicPr/>
          <p:nvPr/>
        </p:nvPicPr>
        <p:blipFill>
          <a:blip r:embed="rId73"/>
          <a:stretch/>
        </p:blipFill>
        <p:spPr>
          <a:xfrm>
            <a:off x="9775800" y="339264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2" descr="C:\Users\ежик\Desktop\гербы\gerb_ryazanskoj_oblasti-600x627.png"/>
          <p:cNvPicPr/>
          <p:nvPr/>
        </p:nvPicPr>
        <p:blipFill>
          <a:blip r:embed="rId74"/>
          <a:stretch/>
        </p:blipFill>
        <p:spPr>
          <a:xfrm>
            <a:off x="3743280" y="5450040"/>
            <a:ext cx="411120" cy="471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6" descr="C:\Users\ежик\Desktop\гербы\150px-Coat_of_arms_of_Chechnya.svg.png"/>
          <p:cNvPicPr/>
          <p:nvPr/>
        </p:nvPicPr>
        <p:blipFill>
          <a:blip r:embed="rId75"/>
          <a:stretch/>
        </p:blipFill>
        <p:spPr>
          <a:xfrm>
            <a:off x="9777240" y="1851120"/>
            <a:ext cx="424080" cy="425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2" descr="C:\Users\ежик\Desktop\гербы\27.png"/>
          <p:cNvPicPr/>
          <p:nvPr/>
        </p:nvPicPr>
        <p:blipFill>
          <a:blip r:embed="rId76"/>
          <a:stretch/>
        </p:blipFill>
        <p:spPr>
          <a:xfrm>
            <a:off x="7348680" y="3370320"/>
            <a:ext cx="357120" cy="426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4" descr="C:\Users\ежик\Desktop\гербы\109px-Coat_of_Arms_of_Republic_of_Karelia.svg.png"/>
          <p:cNvPicPr/>
          <p:nvPr/>
        </p:nvPicPr>
        <p:blipFill>
          <a:blip r:embed="rId77"/>
          <a:stretch/>
        </p:blipFill>
        <p:spPr>
          <a:xfrm>
            <a:off x="10944360" y="3365640"/>
            <a:ext cx="314280" cy="431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Users\ежик\Desktop\гербы\150px-Coat_of_Arms_of_Ivanovo_Oblast.svg.png"/>
          <p:cNvPicPr/>
          <p:nvPr/>
        </p:nvPicPr>
        <p:blipFill>
          <a:blip r:embed="rId78"/>
          <a:stretch/>
        </p:blipFill>
        <p:spPr>
          <a:xfrm>
            <a:off x="9763200" y="5494320"/>
            <a:ext cx="527040" cy="370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1" descr="C:\Users\ежик\Desktop\гербы\121px-Coat_of_arms_of_Irkutsk_Oblast.svg.png"/>
          <p:cNvPicPr/>
          <p:nvPr/>
        </p:nvPicPr>
        <p:blipFill>
          <a:blip r:embed="rId79"/>
          <a:stretch/>
        </p:blipFill>
        <p:spPr>
          <a:xfrm>
            <a:off x="5016600" y="5992920"/>
            <a:ext cx="349200" cy="431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1" descr="C:\Users\ежик\Desktop\гербы\Coat_of_Arms_of_Bashkortostan.svg.png"/>
          <p:cNvPicPr/>
          <p:nvPr/>
        </p:nvPicPr>
        <p:blipFill>
          <a:blip r:embed="rId80"/>
          <a:stretch/>
        </p:blipFill>
        <p:spPr>
          <a:xfrm>
            <a:off x="4978440" y="1317600"/>
            <a:ext cx="390600" cy="417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0" descr="C:\Users\ежик\Desktop\гербы\145px-Coat_of_arms_of_Kaluga_Oblast.svg.png"/>
          <p:cNvPicPr/>
          <p:nvPr/>
        </p:nvPicPr>
        <p:blipFill>
          <a:blip r:embed="rId81"/>
          <a:stretch/>
        </p:blipFill>
        <p:spPr>
          <a:xfrm>
            <a:off x="10895040" y="2360520"/>
            <a:ext cx="409680" cy="422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C:\Users\ежик\Desktop\гербы\133px-Coat_of_arms_of_the_Jewish_Autonomous_Oblast.svg.png"/>
          <p:cNvPicPr/>
          <p:nvPr/>
        </p:nvPicPr>
        <p:blipFill>
          <a:blip r:embed="rId82"/>
          <a:stretch/>
        </p:blipFill>
        <p:spPr>
          <a:xfrm>
            <a:off x="10912320" y="1868400"/>
            <a:ext cx="368280" cy="416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1" descr="C:\Users\ежик\Desktop\гербы\113px-Gerb_of_Penza_region.png"/>
          <p:cNvPicPr/>
          <p:nvPr/>
        </p:nvPicPr>
        <p:blipFill>
          <a:blip r:embed="rId83"/>
          <a:stretch/>
        </p:blipFill>
        <p:spPr>
          <a:xfrm>
            <a:off x="9804240" y="3863880"/>
            <a:ext cx="354240" cy="465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6" descr="C:\Users\ежик\Desktop\гербы\128px-Coat_of_arms_of_Stavropol_Krai.svg.png"/>
          <p:cNvPicPr/>
          <p:nvPr/>
        </p:nvPicPr>
        <p:blipFill>
          <a:blip r:embed="rId84"/>
          <a:stretch/>
        </p:blipFill>
        <p:spPr>
          <a:xfrm>
            <a:off x="2509920" y="4923000"/>
            <a:ext cx="372960" cy="436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9" descr="C:\Users\ежик\Desktop\гербы\119px-Coat_of_Arms_of_Chukotka.png"/>
          <p:cNvPicPr/>
          <p:nvPr/>
        </p:nvPicPr>
        <p:blipFill>
          <a:blip r:embed="rId85"/>
          <a:stretch/>
        </p:blipFill>
        <p:spPr>
          <a:xfrm>
            <a:off x="9810720" y="1324080"/>
            <a:ext cx="345960" cy="434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9" descr="C:\Users\ежик\Desktop\гербы\150px-Coat_of_Arms_of_Sverdlovsk_oblast.svg.png"/>
          <p:cNvPicPr/>
          <p:nvPr/>
        </p:nvPicPr>
        <p:blipFill>
          <a:blip r:embed="rId86"/>
          <a:stretch/>
        </p:blipFill>
        <p:spPr>
          <a:xfrm>
            <a:off x="6111720" y="1878120"/>
            <a:ext cx="5144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Mazur Nataliya</dc:creator>
  <dc:description/>
  <dc:language>en-US</dc:language>
  <cp:lastModifiedBy> </cp:lastModifiedBy>
  <cp:lastPrinted>2015-09-15T13:25:32Z</cp:lastPrinted>
  <dcterms:modified xsi:type="dcterms:W3CDTF">2015-09-16T06:23:13Z</dcterms:modified>
  <cp:revision>185</cp:revision>
  <dc:subject/>
  <dc:title>Презентация PowerPoint</dc:title>
</cp:coreProperties>
</file>